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D77-924D-4920-A568-EA5D56EF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2A0-AACD-46B7-95B0-083F8028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300-A4EC-4F7A-B02D-90A986C3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890-28FB-41BE-9F15-0B8B0067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249A-9D0E-4A77-8FFC-E5056B3C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DE8C-D962-4DDD-AE84-C41E6084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BE28-AB0E-45EC-982F-D8915C5B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8838-AD14-467E-8D61-FFA7A4AB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2351-8D44-466C-8FDB-DC87D21E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4679-0B78-4DAD-9978-D4D4A000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F9E2-742B-405E-A09B-C8DEC9A2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ABD-0574-4173-844F-5D5405B1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0E69-8234-4AC0-B18E-51236F9A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D4DF-3DB8-49F6-9ED9-F58EB1C3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3839-A81E-4226-9FF4-86E87E57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CDE7-B425-4315-9DB6-2593F562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8B85-B3E5-4CAC-931E-35EA182D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2C8-802C-4757-BCE3-D2D0FC95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3DB-22E3-48B2-8D5D-E2033ECC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6E2-85A4-455B-B906-438AB09C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788-60CE-4047-A804-347D35DE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63C-6474-47AF-B01A-81F29400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080-0E4F-40DE-8295-6E80A311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3B2-A425-4216-97EC-F7DD1BAF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E9CD-3011-4968-B66B-74C7D69A643E}" type="datetime3">
              <a:rPr b="0" lang="en-US" sz="1000" spc="-1" strike="noStrike">
                <a:solidFill>
                  <a:srgbClr val="000000"/>
                </a:solidFill>
                <a:latin typeface="Verdana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48DB-0DE6-484D-BE32-211326C57CB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7FAF-46B6-4012-A850-35B77685E80F}" type="datetime3">
              <a:rPr b="0" lang="en-US" sz="1000" spc="-1" strike="noStrike">
                <a:solidFill>
                  <a:srgbClr val="000000"/>
                </a:solidFill>
                <a:latin typeface="Verdana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4728-944A-4CF1-BACB-CE86F06FE3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Robot simulator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atform independence validation on a little scale 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bot Simu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B25C-6240-4923-986F-BC52BBE3E80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910D685-DEF6-4311-B03E-A45EF26933A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Limits and further work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ndows and Bridgepoint don’t provide with good real-time characteristic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ttle scale project: what about a bigger/ more complex system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should study the possibilities to interface modeling with simula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should study the opportunity to execute the models directly without any code generation (model virtual machine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ot Simu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7D4-57AC-44CF-8D7B-7BF04C5F86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AAECB-A0F4-4510-94D0-B03FDD7F617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What is the sumo robot?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o Mindstorm (RC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2438280"/>
            <a:ext cx="3733920" cy="37339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895480" y="4191120"/>
            <a:ext cx="609840" cy="685800"/>
            <a:chOff x="2895480" y="4191120"/>
            <a:chExt cx="609840" cy="685800"/>
          </a:xfrm>
        </p:grpSpPr>
        <p:sp>
          <p:nvSpPr>
            <p:cNvPr id="96" name=""/>
            <p:cNvSpPr/>
            <p:nvPr/>
          </p:nvSpPr>
          <p:spPr>
            <a:xfrm>
              <a:off x="2895480" y="4267440"/>
              <a:ext cx="60984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4080" y="4191120"/>
              <a:ext cx="15264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447000" y="3736080"/>
            <a:ext cx="859680" cy="859680"/>
            <a:chOff x="3447000" y="3736080"/>
            <a:chExt cx="859680" cy="859680"/>
          </a:xfrm>
        </p:grpSpPr>
        <p:sp>
          <p:nvSpPr>
            <p:cNvPr id="99" name=""/>
            <p:cNvSpPr/>
            <p:nvPr/>
          </p:nvSpPr>
          <p:spPr>
            <a:xfrm rot="13758600">
              <a:off x="3571920" y="3860640"/>
              <a:ext cx="609480" cy="6098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3758600">
              <a:off x="3569400" y="428832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858000" y="5029200"/>
            <a:ext cx="2133720" cy="990720"/>
          </a:xfrm>
          <a:prstGeom prst="wedgeRectCallout">
            <a:avLst>
              <a:gd name="adj1" fmla="val -63541"/>
              <a:gd name="adj2" fmla="val -168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 the opponent out of the ring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ot Simu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426-531B-4093-9BD3-0B1877B774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05FE9-EA6C-42C3-8854-FFD9C316ECF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What is the robot simulator?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3D simulator that simulate exactly the real robo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e interface as the real driv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different approa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: Linked with Bridge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: Code generated for the simul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I: Code generated for the rob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ot Simu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8DB-D6AA-4E19-BD21-5E7C53BAD3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827E1-0E43-4152-8EB6-DA048FEA7AB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I: Linked with BridgePoin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face the simulator with BridgePoi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class implementing the external ent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NI used to call C functions (DLL) in Jav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hanges done in the model can be tested immediately in the simulato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0" y="2120760"/>
            <a:ext cx="4419720" cy="344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ot Simu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A7D-1960-4B9B-A9DB-70F710AD67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C5E06-20C8-47FB-8778-B72D396F74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II: Code generated for the simulator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compiler generating C code for Windo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generated code is compiled with the simulato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monstrate the complete development process (modeling, code generation, code compilation, execution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ot Simu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E34-53DD-4CBC-8383-B2A30902AC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F2347-7EF8-4763-B652-9A1A2137DA0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III: Code generated for the robo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compiler generating C code for robo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generated code is compiled for H8300 platfo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oadable module (using BrickOS) is bui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ch the firmware of the robot with BrickOS (IR transf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d the module on target (IR transf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ot Simu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DA5-A926-4A75-B1FF-8E99DADA32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090C0-1331-46A3-A839-43C04FB1091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onclusion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the same model we get the same behavior on two different plat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monstrate platform independ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provide with a new approach: instant execution and testing through simulation at modeling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ot Simu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81C-E269-49CE-A312-BF46D5FA3F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E1DF9-6BA8-427B-8CDC-9CDB727A749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Benefit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: it costs nothing to provide trainees or students with it (compare to the real robot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ndy and usefu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dagogical: provides instant visualization of the behavior you modeled and demonstrate a complete development chai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rt of proof of concept: Platform Independence at very little sca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ot Simu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950-9D92-451D-B8D2-DFF52334B6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C4BFE-E37F-4D0D-84AB-8F46C5D43EE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Why?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3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it is fun and it provides a better visualiz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e that we could have done a more complex simulator for a more complex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this ca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has lots of benefits, it helps to validate many concepts at very little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del was already availabl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little enough to be done in short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ontributes to Ericsson and MDH intere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ining/Edu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lid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ot Simu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C4B-3168-4941-B1D8-121A6D29BA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14FD1-D58D-4473-97FE-5548FF06295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lorian Noyrit</cp:lastModifiedBy>
  <dcterms:modified xsi:type="dcterms:W3CDTF">2008-05-08T09:21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