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jpeg" ContentType="image/jpeg"/>
  <Override PartName="/ppt/media/image13.png" ContentType="image/png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1026-001D-41FF-B1D9-C0921DD91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E863-DAF8-49F9-BC2E-4AC7D959E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a broad overview of MBSE. It represents 2 months of work on that field and to be honest it is not enough: MBSE is very v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7A37-6D64-4193-8D74-EBD7B6C61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razy boss wanted implementation but he can actually expect much more from mode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neglect the possibility to generate any artifacts from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FA54-098F-47F5-8E3C-4F194CA43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2C29-E643-4F75-BD7B-1C2981A6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really want is to abstract our design from implementation deta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want to enable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So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OP programming pushes this approach and abstraction will help us to describe, specify and desig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FAC6-57C5-4032-96E9-1DF08A244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orms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9BC4-7FDC-49F8-AC73-BFC0796CA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el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-modeling enable to create any meta-mod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M is mostly adopted for modeling in th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re is supported by IBM and aligned to MOF specs and extensively used in the Eclips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-modeling languages are object oriented but they enable paradigm-agnotism so MDE is not 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L enable part of real-time model checking: check whether the model is right or w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ter of abstraction is to provide with platform indepen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 Constraint Language (OC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or Complete Meta-Object Fac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0C09-0C07-4A42-B381-58D260B00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el 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chool of thoughts debating on how to enable problem-level ab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ML enable to describe any conc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ML enable specific representation of concer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graph is also a model: ontology or weave mod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ML and DSML are Not mutually exclu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SM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506B-C153-4E32-A739-86724B7E6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ments diagram: requirements become model elements and thereby a part of the product architecture. Text-based requirements (both functional and non-functional) and the relationships between them can be represented in SysM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rics diagra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present constraints on properties of the system (performance, reliability for instance), and enables engineering analysis mode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ableU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from U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-chart diagram: it enables to model an overview of the different domains of the system and relationship (bridges) between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diagram: adopted (but reduced) form UML, it represent the classes and class associations within a dom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chart diagram: represents the behavior for each class. Each state has only one procedure executed when entering into the state. A procedure is a set of actions (specified in an action languag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an action language based on Actions Seman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 model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tion and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chitecture Description Languages (Architecture Analysis and Design Langu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ML but not p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MM: Business Motivation Mod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PMN: Business Process Modeling Notation. This language is usually associated to Business Process Execution Language (BPEL) because BPMN is used for the graphical modeling of BP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VR: Semantics of Business Vocabulary and R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PDM: Business Process Definition Meta-mod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532C-1202-4F5B-B3A4-42974FE78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points we will try to go through during the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why we should bother with modeling and MB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What kind of answers SE pro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How this affects the lifecycle and what kind of development process is adopted in MDE and MB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How far goes the adoption of MB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Opportunities we can en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The challenges we’ll need to overcome to make MBSE and MDE possible in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of probabil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of edges with probabilities for the likelihood that a value leaving the decision node or object node will traverse an ed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of output parameter sets with probabilities for the likelihood that values will be output on a parameter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2801-B6BC-4035-89C5-8FDA660F0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is not an isolated activity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 must follow business evolution to answer new n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 must give answer to bigger and bigger systems. More and more complex. Better quality (embedded systems, no error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cidental complexity can be addressed while Essential cann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usiness want to take benefits of technical evolutions but don’t want to redevelop their sy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63CA-D9F0-428C-BFB4-7572A2037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 Independent Models (CIMs): CIMs describe requirements for a system. The model describes what a system is expected to do but says nothing about how it is implem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 Independent Models (PIMs): PIMs describe how the system will be constructed, but say nothing about the technologies used to implement the mod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-Specific Models (PSMs): PSMs are models for a particular platform. PSMs describe how the CIM can be implemented according to PIM. PSMs can be code or intermediate mode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latform Description Models (PDMs) are also mentioned in MDA and refer to the model used by transformation engines to gener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DA is NOT U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604F-3F13-4714-9B00-5896D2C0D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ains against UML complex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idea is to keep the best practices used on classical product lines and tailor them to software engineering. Thus developers can arrange or use product lines to provide a specific but optimized environment to produce applications of the same fami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factory schema: it is graph that architects the product line in terms of DSML, processes and tools to be used to manipulate mode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factory template: provides the reusable artifacts, guidelines, samples, and tools needed to build members of the product fami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tensible development environment: it is the environment that can produce the specific environment for a family of products based on both the software factory template and sche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30FD-82CD-4A57-A775-46D241100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del Integrated Comp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oftware and system engine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main engin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E: Generic Model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F23B-B791-4398-BCCB-808A62C3C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take advantage of the abstraction of models to do analysis. The sooner we detect an error, the better it 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o some checking in real-time (OCL, audits) but for deep analysis we need to go to formal analys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, Minimize coupling maximize cohesion, good practices, design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ortunately Goodness depend on expert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icsson has good results in testing at high level of abstraction. No errors in there first prot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4852-AD4C-4368-B27B-B7A295B7F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ffline: static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line: execute the S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reate Test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lack-box: analyze the SUT with stimulations and then generate the test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ite-box: Some interesting techniques are based on producing test cases by derivation of use cases but the common technique is to use path tes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e test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utoma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tions Seman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rac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: if the test pass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ard to automa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utoma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calization (hard to trace model/c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euristic based algorithms: reduce number of paths and focus on relevance of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rrect the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utomatable: purely huma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9D10-EA7A-464B-84F9-26A34907A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ed and defined number of viewpoi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 nowadays modeling langu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cuts and ad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6643-322B-454A-8AB9-DC9E6F6B1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CAF9-9134-4877-8E85-4517F4E8B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egacy systems: software moder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rchitecture-Driven Modern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D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Knowledge Discovery Meta-model (KD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D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ization: explore a part of the co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e: Roundtrip engineering using marke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732D-F3AA-4823-A8A9-D780C82D8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acto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No essential information is lost in this transform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his transformation permits to create one view based on multiple others views of th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om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his transformation permits to create different views based on only one view of th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l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: We expect to loose as little essential information as possible in this transform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A36C-0FD4-4B65-B97B-60585BA53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VT (Query/View/Trans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a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eans implementing transformations using a procedural programming language that defines how to read data from the source model, how to transform data and how to write it to the target mod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late-ba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eans filling templates with data from source model to produce the target model. This approach is adapted for text gen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lara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eans specifying rules that describe what is to be produced instead of how. This approach is well suited for reversible transform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e want to ensure consistency, stability, … throughout the life of th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 is not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306C-E2D3-4D3C-9F81-2766565F8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formation eng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vertical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 Software architecture 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del transformation and mode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del transformation is necessary for model analysis: transform to formal mod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 of transformations and transformation engines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tion is kind of program that must be t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ality after transform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6899-7BB1-476D-AD34-566157947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mon Warehouse Meta-model (CW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formation Management Meta-model (IM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ga-model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repositories of models, meta-models and transformation-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time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field of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M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model management in meta-models: available transformations directly provided in meta-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235E-44D9-427A-BE52-05F01ABE9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Unified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Unified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is a bit reorganized so that time spent in coding is spent in model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E5AA-4396-45BA-9EFE-1C9FF9E73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1412-D6EF-4721-A80D-69EC7822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E is h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F61E-6ADB-4B34-8381-92401BF50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F908-E00F-44DD-8B73-A0A5A4BAF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9C8F-5BBC-40C0-886A-863136145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719C-6999-4A13-9582-291D15D45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one side we capture the domain expertise (in abstract mod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other side we capture the technical expertise (in transformation r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eliminate implementation by using transformation rules to generate code from abstract mode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capture the knowl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7CBA-3465-446F-91A0-32692F84C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odel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implementation details and not relevant information to work only with concepts from application doma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5AEA-DC76-4550-A8EA-46A9D2A58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es are the most commo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prints are quiet well ado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ming language is only adopted by early adop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are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CCAC-35FA-4C6A-A2AE-B3AFDE0C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D19-B5DC-41D3-BEDA-25A022B0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442-0EB4-4B2A-8610-C1F971D7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53F-5D0D-43F6-B1E8-741815CB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C06-DA13-40EF-9CE1-009FB73B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94A-9A11-46D9-BF49-6B780FC6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8BB-89C0-446D-8E27-EF9F29ED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C0E-6B94-4AC7-9235-9BF5E32C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40F-4D4E-4834-A936-825FD30B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7C3-79F9-4DAA-816E-C7D6E52B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B9D-6B92-4DCF-A0AE-25A55E67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0A0-05A1-439C-A2F2-B7068D37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D9B-E149-4D45-8EEE-2324C9A7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FD04-7553-40E7-B1C0-19FB9E04D81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BF77-22D5-40E2-9515-C89AAE5206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2"/>
          <p:cNvSpPr/>
          <p:nvPr/>
        </p:nvSpPr>
        <p:spPr>
          <a:xfrm>
            <a:off x="539640" y="63817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omg.org/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Overview of Model-Based Software Engineering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362400"/>
            <a:ext cx="64008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tate of the Art and State of the practice in Model-Based Software Enginee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lorian Noyr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e la date 2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6B0A-6C35-4421-9C7C-B0555C233FF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Espace réservé du pied de page 3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Espace réservé du numéro de diapositive 4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ACD4-8796-441C-BEAF-2D27F1514F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ode generation but not onl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7524720" y="3933720"/>
            <a:ext cx="1062000" cy="100800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y other artifa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5" name="AutoShape 11"/>
          <p:cNvCxnSpPr>
            <a:stCxn id="156" idx="2"/>
            <a:endCxn id="157" idx="0"/>
          </p:cNvCxnSpPr>
          <p:nvPr/>
        </p:nvCxnSpPr>
        <p:spPr>
          <a:xfrm rot="5400000">
            <a:off x="2471040" y="1804680"/>
            <a:ext cx="1304280" cy="3098160"/>
          </a:xfrm>
          <a:prstGeom prst="curvedConnector5">
            <a:avLst>
              <a:gd name="adj1" fmla="val 52981"/>
              <a:gd name="adj2" fmla="val 49994"/>
              <a:gd name="adj3" fmla="val 52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12"/>
          <p:cNvCxnSpPr>
            <a:stCxn id="156" idx="2"/>
            <a:endCxn id="159" idx="0"/>
          </p:cNvCxnSpPr>
          <p:nvPr/>
        </p:nvCxnSpPr>
        <p:spPr>
          <a:xfrm rot="5400000">
            <a:off x="2723400" y="3065040"/>
            <a:ext cx="2312280" cy="1585080"/>
          </a:xfrm>
          <a:prstGeom prst="curvedConnector5">
            <a:avLst>
              <a:gd name="adj1" fmla="val 51635"/>
              <a:gd name="adj2" fmla="val 50000"/>
              <a:gd name="adj3" fmla="val 516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AutoShape 13"/>
          <p:cNvCxnSpPr>
            <a:stCxn id="156" idx="2"/>
            <a:endCxn id="161" idx="0"/>
          </p:cNvCxnSpPr>
          <p:nvPr/>
        </p:nvCxnSpPr>
        <p:spPr>
          <a:xfrm flipH="1">
            <a:off x="4671360" y="2701440"/>
            <a:ext cx="1080" cy="13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AutoShape 14"/>
          <p:cNvCxnSpPr>
            <a:stCxn id="156" idx="2"/>
            <a:endCxn id="163" idx="0"/>
          </p:cNvCxnSpPr>
          <p:nvPr/>
        </p:nvCxnSpPr>
        <p:spPr>
          <a:xfrm flipH="1" rot="16200000">
            <a:off x="4235040" y="3137400"/>
            <a:ext cx="2528280" cy="1656360"/>
          </a:xfrm>
          <a:prstGeom prst="curvedConnector5">
            <a:avLst>
              <a:gd name="adj1" fmla="val 51495"/>
              <a:gd name="adj2" fmla="val 50000"/>
              <a:gd name="adj3" fmla="val 514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15"/>
          <p:cNvCxnSpPr>
            <a:stCxn id="156" idx="2"/>
            <a:endCxn id="154" idx="0"/>
          </p:cNvCxnSpPr>
          <p:nvPr/>
        </p:nvCxnSpPr>
        <p:spPr>
          <a:xfrm flipH="1" rot="16200000">
            <a:off x="5747400" y="1625400"/>
            <a:ext cx="1232280" cy="3385080"/>
          </a:xfrm>
          <a:prstGeom prst="curvedConnector5">
            <a:avLst>
              <a:gd name="adj1" fmla="val 53097"/>
              <a:gd name="adj2" fmla="val 50000"/>
              <a:gd name="adj3" fmla="val 530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AutoShape 17"/>
          <p:cNvSpPr/>
          <p:nvPr/>
        </p:nvSpPr>
        <p:spPr>
          <a:xfrm>
            <a:off x="4140360" y="1773360"/>
            <a:ext cx="1062000" cy="100800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 mod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1042920" y="4005360"/>
            <a:ext cx="1062000" cy="100800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19"/>
          <p:cNvSpPr/>
          <p:nvPr/>
        </p:nvSpPr>
        <p:spPr>
          <a:xfrm>
            <a:off x="4140360" y="4005360"/>
            <a:ext cx="1062000" cy="100800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sui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2556000" y="5013360"/>
            <a:ext cx="1062000" cy="100800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utoShape 21"/>
          <p:cNvSpPr/>
          <p:nvPr/>
        </p:nvSpPr>
        <p:spPr>
          <a:xfrm>
            <a:off x="5796000" y="5229360"/>
            <a:ext cx="1062000" cy="100800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loyment scrip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F84C-F98D-4924-A76A-5B6022A9EE5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CE11-39EC-41AF-9707-B98C5FEEB4A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aramond"/>
                <a:ea typeface="宋体"/>
              </a:rPr>
              <a:t>Model-Based Software Engineering: technologies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odeling langu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odel-Driven Engineering approa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odels analysis, testing and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odel transformation and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e la date 4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2F70-D211-4AAE-B16B-923B9C51536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Espace réservé du pied de page 5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6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08EB-1A52-4D09-8BE0-947B51769E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The theory: abstraction and SoC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1720"/>
            <a:ext cx="403848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ising the level of abst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e application domain from software archite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able separation of 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5435640" y="3429000"/>
            <a:ext cx="1257120" cy="2031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ming languag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ssembl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5248440" y="2263680"/>
            <a:ext cx="144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4211640" y="2997360"/>
            <a:ext cx="1208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 of abs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4676760" y="226368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4676760" y="523548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6848640" y="2492280"/>
            <a:ext cx="1257120" cy="1600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deling Languag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GPML (UML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SML (SAD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6848640" y="4092480"/>
            <a:ext cx="1257120" cy="560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ction langu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7451640" y="4670280"/>
            <a:ext cx="1513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mplementation deta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28"/>
          <p:cNvSpPr/>
          <p:nvPr/>
        </p:nvSpPr>
        <p:spPr>
          <a:xfrm>
            <a:off x="4789440" y="4653000"/>
            <a:ext cx="3816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e la date 2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92F0-A960-472D-B6CD-07EA0569345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Espace réservé du pied de page 3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4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0B33-7A22-4BFD-9CD3-578BAB2054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aramond"/>
              </a:rPr>
              <a:t>Evolution of languages: Platform independence (software and hardware)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1332000" y="1557360"/>
            <a:ext cx="0" cy="4319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0920" y="3357720"/>
            <a:ext cx="1208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 of abs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39640" y="1557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468360" y="5589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332000" y="587700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7236000" y="5950080"/>
            <a:ext cx="1207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1476360" y="4653000"/>
            <a:ext cx="2158920" cy="1152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emblers (1G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en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780000" y="3500280"/>
            <a:ext cx="2158920" cy="1152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, Pascal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depen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84720" y="2276640"/>
            <a:ext cx="2374920" cy="1152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deling langu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depen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e la date 2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7B6C-0F34-46AF-8228-49E705D4816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Espace réservé du pied de page 3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numéro de diapositive 4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A514-1315-4657-81D7-72C3D5A3098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The theory: meta-modeling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2276640"/>
            <a:ext cx="194328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ta-meta-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00000" y="3500280"/>
            <a:ext cx="194328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900000" y="4597560"/>
            <a:ext cx="1943280" cy="34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00000" y="5676840"/>
            <a:ext cx="1943280" cy="3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84360" y="5216400"/>
            <a:ext cx="125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res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436680" y="4076640"/>
            <a:ext cx="15825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forms 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36680" y="2997360"/>
            <a:ext cx="161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forms 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755640" y="1700280"/>
            <a:ext cx="1760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forms 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7597800" y="23493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7564320" y="459900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564320" y="35002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7564320" y="567864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16"/>
          <p:cNvCxnSpPr>
            <a:stCxn id="201" idx="2"/>
            <a:endCxn id="202" idx="0"/>
          </p:cNvCxnSpPr>
          <p:nvPr/>
        </p:nvCxnSpPr>
        <p:spPr>
          <a:xfrm>
            <a:off x="1871280" y="2619000"/>
            <a:ext cx="108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4" name="AutoShape 17"/>
          <p:cNvCxnSpPr>
            <a:stCxn id="202" idx="2"/>
            <a:endCxn id="203" idx="0"/>
          </p:cNvCxnSpPr>
          <p:nvPr/>
        </p:nvCxnSpPr>
        <p:spPr>
          <a:xfrm>
            <a:off x="1871280" y="384300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5" name="Text Box 19"/>
          <p:cNvSpPr/>
          <p:nvPr/>
        </p:nvSpPr>
        <p:spPr>
          <a:xfrm>
            <a:off x="5148360" y="2060640"/>
            <a:ext cx="180000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ta-modeling langu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4933800" y="3500280"/>
            <a:ext cx="2230560" cy="3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deling langu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7" name="AutoShape 21"/>
          <p:cNvCxnSpPr>
            <a:stCxn id="203" idx="3"/>
            <a:endCxn id="216" idx="2"/>
          </p:cNvCxnSpPr>
          <p:nvPr/>
        </p:nvCxnSpPr>
        <p:spPr>
          <a:xfrm flipV="1">
            <a:off x="2842920" y="3841200"/>
            <a:ext cx="32072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22"/>
          <p:cNvCxnSpPr>
            <a:stCxn id="202" idx="3"/>
            <a:endCxn id="215" idx="2"/>
          </p:cNvCxnSpPr>
          <p:nvPr/>
        </p:nvCxnSpPr>
        <p:spPr>
          <a:xfrm flipV="1">
            <a:off x="2842920" y="2778840"/>
            <a:ext cx="3205800" cy="89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23"/>
          <p:cNvCxnSpPr>
            <a:stCxn id="201" idx="3"/>
            <a:endCxn id="215" idx="1"/>
          </p:cNvCxnSpPr>
          <p:nvPr/>
        </p:nvCxnSpPr>
        <p:spPr>
          <a:xfrm flipV="1">
            <a:off x="2842920" y="2420280"/>
            <a:ext cx="2305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AutoShape 24"/>
          <p:cNvCxnSpPr>
            <a:stCxn id="202" idx="3"/>
            <a:endCxn id="216" idx="1"/>
          </p:cNvCxnSpPr>
          <p:nvPr/>
        </p:nvCxnSpPr>
        <p:spPr>
          <a:xfrm>
            <a:off x="2842920" y="3671640"/>
            <a:ext cx="20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Text Box 25"/>
          <p:cNvSpPr/>
          <p:nvPr/>
        </p:nvSpPr>
        <p:spPr>
          <a:xfrm>
            <a:off x="4784760" y="4148280"/>
            <a:ext cx="125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longs 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3492360" y="2852640"/>
            <a:ext cx="125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longs 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3564000" y="1773360"/>
            <a:ext cx="1255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resents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longs 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3421080" y="3716280"/>
            <a:ext cx="125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res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5" name="AutoShape 29"/>
          <p:cNvCxnSpPr>
            <a:stCxn id="204" idx="0"/>
            <a:endCxn id="203" idx="2"/>
          </p:cNvCxnSpPr>
          <p:nvPr/>
        </p:nvCxnSpPr>
        <p:spPr>
          <a:xfrm flipV="1">
            <a:off x="1871280" y="4941360"/>
            <a:ext cx="108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30"/>
          <p:cNvCxnSpPr>
            <a:stCxn id="201" idx="1"/>
            <a:endCxn id="201" idx="0"/>
          </p:cNvCxnSpPr>
          <p:nvPr/>
        </p:nvCxnSpPr>
        <p:spPr>
          <a:xfrm flipH="1" rot="10800000">
            <a:off x="898920" y="2275920"/>
            <a:ext cx="972360" cy="172080"/>
          </a:xfrm>
          <a:prstGeom prst="bentConnector4">
            <a:avLst>
              <a:gd name="adj1" fmla="val -23518"/>
              <a:gd name="adj2" fmla="val 233333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8C48-DEB2-44A7-844E-99916BF8B69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690F-AC52-4771-B3E7-811440A77F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The theory: meta-modeling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-modeling langu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, EMOF, CMOF, ECore, K3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-oriented and paradig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digm-agnostic: MDE is not O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consist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tform independ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software and hard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4C40-58E7-4963-8999-BFEE2B166DD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4922-6644-4D82-B21A-28CBA986E6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cc3300"/>
                </a:solidFill>
                <a:latin typeface="Garamond"/>
                <a:ea typeface="宋体"/>
              </a:rPr>
              <a:t>Modeling language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 Purpose Modeling Languages (GPM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the core language with facilities to extend i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L and UML Pro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xity (of UML), not widely adopted for models as programming language (ye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main Specific Modeling Languages (DSM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level of abstraction but specific (and crosscutt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and model management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 challe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7956720" y="1700280"/>
            <a:ext cx="1008000" cy="91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7956720" y="1628640"/>
            <a:ext cx="647640" cy="360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8675640" y="2349360"/>
            <a:ext cx="289080" cy="2160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Oval 7"/>
          <p:cNvSpPr/>
          <p:nvPr/>
        </p:nvSpPr>
        <p:spPr>
          <a:xfrm>
            <a:off x="7956720" y="2276640"/>
            <a:ext cx="502920" cy="5047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Oval 8"/>
          <p:cNvSpPr/>
          <p:nvPr/>
        </p:nvSpPr>
        <p:spPr>
          <a:xfrm>
            <a:off x="8748720" y="1628640"/>
            <a:ext cx="287280" cy="360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6732720" y="5013360"/>
            <a:ext cx="28728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7667640" y="4508640"/>
            <a:ext cx="431640" cy="1443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Oval 12"/>
          <p:cNvSpPr/>
          <p:nvPr/>
        </p:nvSpPr>
        <p:spPr>
          <a:xfrm>
            <a:off x="6877080" y="5589720"/>
            <a:ext cx="142920" cy="144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7020000" y="4724280"/>
            <a:ext cx="287280" cy="144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7308720" y="5157720"/>
            <a:ext cx="287640" cy="360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7164360" y="5805360"/>
            <a:ext cx="649440" cy="730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Oval 16"/>
          <p:cNvSpPr/>
          <p:nvPr/>
        </p:nvSpPr>
        <p:spPr>
          <a:xfrm>
            <a:off x="7956720" y="5157720"/>
            <a:ext cx="863280" cy="36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Oval 17"/>
          <p:cNvSpPr/>
          <p:nvPr/>
        </p:nvSpPr>
        <p:spPr>
          <a:xfrm>
            <a:off x="7956720" y="5734080"/>
            <a:ext cx="14436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0" name="AutoShape 18"/>
          <p:cNvCxnSpPr>
            <a:stCxn id="245" idx="5"/>
            <a:endCxn id="246" idx="0"/>
          </p:cNvCxnSpPr>
          <p:nvPr/>
        </p:nvCxnSpPr>
        <p:spPr>
          <a:xfrm>
            <a:off x="7264080" y="4848120"/>
            <a:ext cx="18972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AutoShape 19"/>
          <p:cNvCxnSpPr>
            <a:stCxn id="243" idx="2"/>
            <a:endCxn id="246" idx="7"/>
          </p:cNvCxnSpPr>
          <p:nvPr/>
        </p:nvCxnSpPr>
        <p:spPr>
          <a:xfrm flipH="1">
            <a:off x="7552800" y="4581000"/>
            <a:ext cx="11520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AutoShape 20"/>
          <p:cNvCxnSpPr>
            <a:stCxn id="242" idx="6"/>
            <a:endCxn id="246" idx="1"/>
          </p:cNvCxnSpPr>
          <p:nvPr/>
        </p:nvCxnSpPr>
        <p:spPr>
          <a:xfrm>
            <a:off x="7019640" y="5121000"/>
            <a:ext cx="33228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AutoShape 21"/>
          <p:cNvCxnSpPr>
            <a:stCxn id="244" idx="7"/>
            <a:endCxn id="246" idx="2"/>
          </p:cNvCxnSpPr>
          <p:nvPr/>
        </p:nvCxnSpPr>
        <p:spPr>
          <a:xfrm flipV="1">
            <a:off x="6999120" y="5338440"/>
            <a:ext cx="3103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AutoShape 22"/>
          <p:cNvCxnSpPr>
            <a:stCxn id="247" idx="0"/>
            <a:endCxn id="242" idx="4"/>
          </p:cNvCxnSpPr>
          <p:nvPr/>
        </p:nvCxnSpPr>
        <p:spPr>
          <a:xfrm flipH="1" flipV="1">
            <a:off x="6876720" y="5229360"/>
            <a:ext cx="61344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" name="AutoShape 23"/>
          <p:cNvCxnSpPr>
            <a:stCxn id="248" idx="4"/>
            <a:endCxn id="249" idx="7"/>
          </p:cNvCxnSpPr>
          <p:nvPr/>
        </p:nvCxnSpPr>
        <p:spPr>
          <a:xfrm flipH="1">
            <a:off x="8079840" y="5518080"/>
            <a:ext cx="30888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" name="AutoShape 24"/>
          <p:cNvCxnSpPr>
            <a:stCxn id="247" idx="0"/>
            <a:endCxn id="243" idx="5"/>
          </p:cNvCxnSpPr>
          <p:nvPr/>
        </p:nvCxnSpPr>
        <p:spPr>
          <a:xfrm flipV="1">
            <a:off x="7489440" y="4632120"/>
            <a:ext cx="546480" cy="117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AutoShape 25"/>
          <p:cNvCxnSpPr>
            <a:stCxn id="245" idx="6"/>
            <a:endCxn id="248" idx="2"/>
          </p:cNvCxnSpPr>
          <p:nvPr/>
        </p:nvCxnSpPr>
        <p:spPr>
          <a:xfrm>
            <a:off x="7307280" y="4797360"/>
            <a:ext cx="650160" cy="54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9E3A-61F8-41D6-ADAE-1AB2471E569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F31E-ADA6-428E-832C-B699BDCD02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aramond"/>
                <a:ea typeface="宋体"/>
              </a:rPr>
              <a:t>Notable, mature or widely adopted modeling languages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ys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UML + Rerquierements and Parametrics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u="sng">
                <a:solidFill>
                  <a:srgbClr val="000000"/>
                </a:solidFill>
                <a:uFillTx/>
                <a:latin typeface="Verdana"/>
              </a:rPr>
              <a:t>ExecutableU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Model execution (UML2 Action Semantic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s (AAD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usiness domain: BMM, BPMN, SBVR, BPD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3300"/>
                </a:solidFill>
                <a:latin typeface="Garamond"/>
              </a:rPr>
              <a:t>SysML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64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01C8-25C9-4D62-B9DE-087481A1C43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50C5-719C-4956-9F00-DF29702D637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2" descr="http://www.omgsysml.org/images/Figure-2.jpg"/>
          <p:cNvPicPr/>
          <p:nvPr/>
        </p:nvPicPr>
        <p:blipFill>
          <a:blip r:embed="rId1"/>
          <a:stretch/>
        </p:blipFill>
        <p:spPr>
          <a:xfrm>
            <a:off x="571680" y="1928880"/>
            <a:ext cx="8150040" cy="3857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SysML: the four pillar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11280" y="1477800"/>
            <a:ext cx="7632720" cy="4857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8EB3-A52F-43DC-9E5A-17DE57FBC77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6C96-3A91-4147-8955-B4C088E8E55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BSE Techn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s in lifecy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o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portun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SysML: structure, Block definiti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cks extend UML Structured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ck can represent any level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m: collection of block with connection between them (using por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6408720" cy="376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aramond"/>
              </a:rPr>
              <a:t>SysML: structure, Internal block diagram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ies a set of required or provided operations and/or sign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yped by a UML inte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 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ies what can flow in or out of block/pa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yped by a flow specif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omic, non-atomic, and conjugate vari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1916280"/>
            <a:ext cx="10810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1916280"/>
            <a:ext cx="10810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084720" y="2205000"/>
            <a:ext cx="1429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7524720" y="2205000"/>
            <a:ext cx="1429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9" name=""/>
          <p:cNvCxnSpPr>
            <a:stCxn id="277" idx="3"/>
            <a:endCxn id="278" idx="1"/>
          </p:cNvCxnSpPr>
          <p:nvPr/>
        </p:nvCxnSpPr>
        <p:spPr>
          <a:xfrm>
            <a:off x="6227280" y="2277720"/>
            <a:ext cx="1297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6948360" y="177336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 rot="10800000">
            <a:off x="6516720" y="1846440"/>
            <a:ext cx="274320" cy="1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753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7532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82" name=""/>
          <p:cNvCxnSpPr>
            <a:stCxn id="278" idx="1"/>
            <a:endCxn id="280" idx="5"/>
          </p:cNvCxnSpPr>
          <p:nvPr/>
        </p:nvCxnSpPr>
        <p:spPr>
          <a:xfrm flipH="1" flipV="1">
            <a:off x="7071480" y="1896840"/>
            <a:ext cx="453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endCxn id="277" idx="3"/>
          </p:cNvCxnSpPr>
          <p:nvPr/>
        </p:nvCxnSpPr>
        <p:spPr>
          <a:xfrm flipH="1">
            <a:off x="6227280" y="1917360"/>
            <a:ext cx="2894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4" name=""/>
          <p:cNvSpPr/>
          <p:nvPr/>
        </p:nvSpPr>
        <p:spPr>
          <a:xfrm>
            <a:off x="5076720" y="2997360"/>
            <a:ext cx="10810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997360"/>
            <a:ext cx="10810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6013440" y="3286080"/>
            <a:ext cx="28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87" name=""/>
          <p:cNvCxnSpPr>
            <a:stCxn id="286" idx="3"/>
            <a:endCxn id="288" idx="1"/>
          </p:cNvCxnSpPr>
          <p:nvPr/>
        </p:nvCxnSpPr>
        <p:spPr>
          <a:xfrm>
            <a:off x="6300720" y="3430080"/>
            <a:ext cx="115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7453440" y="3286080"/>
            <a:ext cx="28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89" name=""/>
          <p:cNvCxnSpPr>
            <a:stCxn id="286" idx="1"/>
            <a:endCxn id="286" idx="3"/>
          </p:cNvCxnSpPr>
          <p:nvPr/>
        </p:nvCxnSpPr>
        <p:spPr>
          <a:xfrm>
            <a:off x="6013440" y="34300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90" name=""/>
          <p:cNvCxnSpPr>
            <a:stCxn id="288" idx="1"/>
            <a:endCxn id="288" idx="3"/>
          </p:cNvCxnSpPr>
          <p:nvPr/>
        </p:nvCxnSpPr>
        <p:spPr>
          <a:xfrm>
            <a:off x="7453440" y="34300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1" name=""/>
          <p:cNvSpPr/>
          <p:nvPr/>
        </p:nvSpPr>
        <p:spPr>
          <a:xfrm rot="5400000">
            <a:off x="6769800" y="332172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780000" y="3933720"/>
            <a:ext cx="5364000" cy="2444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SysML: parametric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Represent constraints on properties of the system (performance, reliability for inst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nables engineering analysi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76360" y="2486160"/>
            <a:ext cx="6192720" cy="431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SysML: requirement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ing text-based requirements (functional and non-functio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&lt;deriveReqt&gt;&gt;, &lt;&lt;satisfy&gt;&gt;, &lt;&lt;verify&gt;&gt; (tests), &lt;&lt;refine&gt;&gt;, &lt;&lt;trace&gt;&gt;, &lt;&lt;rationale&gt;&gt;, &lt;&lt;a copy&gt;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403280" y="2841480"/>
            <a:ext cx="6440400" cy="354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SysML: behavior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quence, activity, state chart, use c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on for continuous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triction on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 management (especially for old/new values managemen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ility to add probabilities (on edges and output paramet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aramond"/>
              </a:rPr>
              <a:t>SysML, crosscutting concerns: allocations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ship to connect one model to an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note cross-association of elements in the various viewpoi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to cope with cross-cutting concerns and SoC 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Executable UML: overview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et of UML + complete Action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pill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main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dia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onal view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c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quence diagra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427640" y="4721400"/>
            <a:ext cx="4465440" cy="9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ign self.isOpen = true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ect one sensor related by self-&gt;uses[R0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Executable UML: layer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547640" y="3429000"/>
            <a:ext cx="935280" cy="544320"/>
            <a:chOff x="1547640" y="3429000"/>
            <a:chExt cx="935280" cy="544320"/>
          </a:xfrm>
        </p:grpSpPr>
        <p:sp>
          <p:nvSpPr>
            <p:cNvPr id="308" name=""/>
            <p:cNvSpPr/>
            <p:nvPr/>
          </p:nvSpPr>
          <p:spPr>
            <a:xfrm>
              <a:off x="1547640" y="3506760"/>
              <a:ext cx="935280" cy="46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ubsystem D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47640" y="3429000"/>
              <a:ext cx="429480" cy="7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826920" y="4365720"/>
            <a:ext cx="933480" cy="543960"/>
            <a:chOff x="826920" y="4365720"/>
            <a:chExt cx="933480" cy="543960"/>
          </a:xfrm>
        </p:grpSpPr>
        <p:sp>
          <p:nvSpPr>
            <p:cNvPr id="311" name=""/>
            <p:cNvSpPr/>
            <p:nvPr/>
          </p:nvSpPr>
          <p:spPr>
            <a:xfrm>
              <a:off x="826920" y="4443480"/>
              <a:ext cx="933480" cy="46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ubsystem C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26920" y="4365720"/>
              <a:ext cx="428400" cy="7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250920" y="3530520"/>
            <a:ext cx="933480" cy="544320"/>
            <a:chOff x="250920" y="3530520"/>
            <a:chExt cx="933480" cy="544320"/>
          </a:xfrm>
        </p:grpSpPr>
        <p:sp>
          <p:nvSpPr>
            <p:cNvPr id="314" name=""/>
            <p:cNvSpPr/>
            <p:nvPr/>
          </p:nvSpPr>
          <p:spPr>
            <a:xfrm>
              <a:off x="250920" y="3608280"/>
              <a:ext cx="933480" cy="46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ubsystem B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0920" y="3530520"/>
              <a:ext cx="428400" cy="7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826920" y="2637000"/>
            <a:ext cx="933480" cy="544320"/>
            <a:chOff x="826920" y="2637000"/>
            <a:chExt cx="933480" cy="544320"/>
          </a:xfrm>
        </p:grpSpPr>
        <p:sp>
          <p:nvSpPr>
            <p:cNvPr id="317" name=""/>
            <p:cNvSpPr/>
            <p:nvPr/>
          </p:nvSpPr>
          <p:spPr>
            <a:xfrm>
              <a:off x="826920" y="2715120"/>
              <a:ext cx="933480" cy="46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ubsystem 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26920" y="2637000"/>
              <a:ext cx="428400" cy="7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19" name=""/>
          <p:cNvCxnSpPr>
            <a:stCxn id="317" idx="1"/>
            <a:endCxn id="314" idx="0"/>
          </p:cNvCxnSpPr>
          <p:nvPr/>
        </p:nvCxnSpPr>
        <p:spPr>
          <a:xfrm flipV="1" rot="10800000">
            <a:off x="716760" y="2948040"/>
            <a:ext cx="110160" cy="66060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20" name=""/>
          <p:cNvCxnSpPr>
            <a:stCxn id="317" idx="3"/>
            <a:endCxn id="308" idx="0"/>
          </p:cNvCxnSpPr>
          <p:nvPr/>
        </p:nvCxnSpPr>
        <p:spPr>
          <a:xfrm>
            <a:off x="1760400" y="2948040"/>
            <a:ext cx="255960" cy="559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21" name=""/>
          <p:cNvCxnSpPr>
            <a:stCxn id="317" idx="2"/>
            <a:endCxn id="311" idx="0"/>
          </p:cNvCxnSpPr>
          <p:nvPr/>
        </p:nvCxnSpPr>
        <p:spPr>
          <a:xfrm flipV="1" rot="10800000">
            <a:off x="1293120" y="3180960"/>
            <a:ext cx="1080" cy="12628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22" name=""/>
          <p:cNvCxnSpPr>
            <a:stCxn id="308" idx="2"/>
            <a:endCxn id="311" idx="3"/>
          </p:cNvCxnSpPr>
          <p:nvPr/>
        </p:nvCxnSpPr>
        <p:spPr>
          <a:xfrm rot="5400000">
            <a:off x="1536480" y="4197240"/>
            <a:ext cx="703800" cy="25596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grpSp>
        <p:nvGrpSpPr>
          <p:cNvPr id="323" name=""/>
          <p:cNvGrpSpPr/>
          <p:nvPr/>
        </p:nvGrpSpPr>
        <p:grpSpPr>
          <a:xfrm>
            <a:off x="2771640" y="2205000"/>
            <a:ext cx="1511280" cy="1144440"/>
            <a:chOff x="2771640" y="2205000"/>
            <a:chExt cx="1511280" cy="1144440"/>
          </a:xfrm>
        </p:grpSpPr>
        <p:sp>
          <p:nvSpPr>
            <p:cNvPr id="324" name=""/>
            <p:cNvSpPr/>
            <p:nvPr/>
          </p:nvSpPr>
          <p:spPr>
            <a:xfrm>
              <a:off x="2771640" y="2205000"/>
              <a:ext cx="151128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oo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71640" y="2433960"/>
              <a:ext cx="15112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sOpen: boolea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71640" y="2892240"/>
              <a:ext cx="15112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open(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lose(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771640" y="5057640"/>
            <a:ext cx="1511280" cy="1144440"/>
            <a:chOff x="2771640" y="5057640"/>
            <a:chExt cx="1511280" cy="1144440"/>
          </a:xfrm>
        </p:grpSpPr>
        <p:sp>
          <p:nvSpPr>
            <p:cNvPr id="328" name=""/>
            <p:cNvSpPr/>
            <p:nvPr/>
          </p:nvSpPr>
          <p:spPr>
            <a:xfrm>
              <a:off x="2771640" y="5057640"/>
              <a:ext cx="151128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enso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5286600"/>
              <a:ext cx="15112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alue: float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1640" y="5744880"/>
              <a:ext cx="15112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nit(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31" name=""/>
          <p:cNvCxnSpPr>
            <a:stCxn id="326" idx="2"/>
            <a:endCxn id="328" idx="0"/>
          </p:cNvCxnSpPr>
          <p:nvPr/>
        </p:nvCxnSpPr>
        <p:spPr>
          <a:xfrm>
            <a:off x="3526920" y="3349800"/>
            <a:ext cx="1080" cy="1708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3635280" y="47242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3429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used b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3059280" y="47973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..*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3132000" y="33577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4716360" y="2565360"/>
            <a:ext cx="1992240" cy="86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4716360" y="285264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4859280" y="2565360"/>
            <a:ext cx="176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. Openin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7056360" y="2565360"/>
            <a:ext cx="1979640" cy="86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7056360" y="2852640"/>
            <a:ext cx="19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7199280" y="2565360"/>
            <a:ext cx="17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. Closin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42" name=""/>
          <p:cNvCxnSpPr>
            <a:stCxn id="338" idx="0"/>
            <a:endCxn id="341" idx="0"/>
          </p:cNvCxnSpPr>
          <p:nvPr/>
        </p:nvCxnSpPr>
        <p:spPr>
          <a:xfrm flipH="1" rot="16200000">
            <a:off x="6908040" y="1397520"/>
            <a:ext cx="2520" cy="233568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9" idx="2"/>
            <a:endCxn id="336" idx="2"/>
          </p:cNvCxnSpPr>
          <p:nvPr/>
        </p:nvCxnSpPr>
        <p:spPr>
          <a:xfrm rot="5400000">
            <a:off x="6878880" y="2262960"/>
            <a:ext cx="2160" cy="2334240"/>
          </a:xfrm>
          <a:prstGeom prst="curvedConnector5">
            <a:avLst>
              <a:gd name="adj1" fmla="val 14400000"/>
              <a:gd name="adj2" fmla="val 49992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6372360" y="206064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oor1: clo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6372360" y="364500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oor2: op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4859280" y="2925720"/>
            <a:ext cx="1765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ntry/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ssign self.isOpen=tru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7199280" y="2925720"/>
            <a:ext cx="1754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ntry/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ssign self.isOpen=fal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1557360"/>
            <a:ext cx="187164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main cha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2340000" y="1557360"/>
            <a:ext cx="208764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s dia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4427640" y="1557360"/>
            <a:ext cx="4537080" cy="3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ate cha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>
            <a:off x="4427640" y="4149720"/>
            <a:ext cx="4537080" cy="3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on langu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52" name=""/>
          <p:cNvCxnSpPr>
            <a:stCxn id="308" idx="0"/>
            <a:endCxn id="324" idx="1"/>
          </p:cNvCxnSpPr>
          <p:nvPr/>
        </p:nvCxnSpPr>
        <p:spPr>
          <a:xfrm flipV="1">
            <a:off x="2015640" y="2319480"/>
            <a:ext cx="756360" cy="118764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cxnSp>
        <p:nvCxnSpPr>
          <p:cNvPr id="353" name=""/>
          <p:cNvCxnSpPr>
            <a:stCxn id="308" idx="2"/>
            <a:endCxn id="330" idx="1"/>
          </p:cNvCxnSpPr>
          <p:nvPr/>
        </p:nvCxnSpPr>
        <p:spPr>
          <a:xfrm>
            <a:off x="2015640" y="3973680"/>
            <a:ext cx="756360" cy="200088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cxnSp>
        <p:nvCxnSpPr>
          <p:cNvPr id="354" name=""/>
          <p:cNvCxnSpPr>
            <a:stCxn id="324" idx="3"/>
            <a:endCxn id="344" idx="1"/>
          </p:cNvCxnSpPr>
          <p:nvPr/>
        </p:nvCxnSpPr>
        <p:spPr>
          <a:xfrm flipV="1">
            <a:off x="4282920" y="2182320"/>
            <a:ext cx="2090160" cy="1375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cxnSp>
        <p:nvCxnSpPr>
          <p:cNvPr id="355" name=""/>
          <p:cNvCxnSpPr>
            <a:stCxn id="326" idx="2"/>
            <a:endCxn id="345" idx="1"/>
          </p:cNvCxnSpPr>
          <p:nvPr/>
        </p:nvCxnSpPr>
        <p:spPr>
          <a:xfrm>
            <a:off x="3526920" y="3349440"/>
            <a:ext cx="2845800" cy="41796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sp>
        <p:nvSpPr>
          <p:cNvPr id="356" name=""/>
          <p:cNvSpPr/>
          <p:nvPr/>
        </p:nvSpPr>
        <p:spPr>
          <a:xfrm>
            <a:off x="3059280" y="4076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Action languag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ous languages based on UML2 Actions Semantics: SMALL, TALL, OAL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language is used for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 (for state-dependent behavio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dges (for mapping to other domai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rations (for state independent behavio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enarios (for simulation and system initializ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languages give facilities to manipulate instances using instance handl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aramond"/>
              </a:rPr>
              <a:t>Action language: basic constructs (OAL)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eate a New Class Inst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te object instance myDoor of Door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ign Attribute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ign myDoor.isOpen = true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tain an Instance Hand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ect any sensor related by myDoor-&gt;uses[R0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ect one …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ect many … [where …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eate an Association Inst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late … to … across … [using …]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vig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 an Association Inst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relate … from … across … [using …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nd and receive a Ev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te Door1:open to myDoor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 a Class Inst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lete object instance myDoor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569C-52FB-4176-8AD1-78D1043CDE3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2FDB-D323-401D-9B08-A9AD5AABF6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aramond"/>
              </a:rPr>
              <a:t>Software engineering concerns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xity increa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ts depen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idental complex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terogene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business and technology ev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business application domain o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e application domain from software archite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benefits of technology ev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Espace réservé de la date 4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BA10-A8F5-4594-877F-519AFC42D08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Espace réservé du pied de page 5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Espace réservé du numéro de diapositive 6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E443-AE7C-44BE-BD21-753D530771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aramond"/>
                <a:ea typeface="宋体"/>
              </a:rPr>
              <a:t>Model-Driven Engineering approaches: MD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ation Independent Models (CIM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tform Independent Models (PIM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tform-Specific Models (PSM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Marks, Platform Description Model (PD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6232680" y="2293920"/>
            <a:ext cx="57132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I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6588000" y="3807000"/>
            <a:ext cx="72072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S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7075440" y="2535120"/>
            <a:ext cx="1600200" cy="838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ditionnal information, PDM, mar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4638600" y="3157560"/>
            <a:ext cx="1589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del trans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4356000" y="2293920"/>
            <a:ext cx="73368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I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5724360" y="3807000"/>
            <a:ext cx="72072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S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AutoShape 12"/>
          <p:cNvSpPr/>
          <p:nvPr/>
        </p:nvSpPr>
        <p:spPr>
          <a:xfrm rot="3771600">
            <a:off x="6574680" y="3490560"/>
            <a:ext cx="343080" cy="114120"/>
          </a:xfrm>
          <a:prstGeom prst="rightArrow">
            <a:avLst>
              <a:gd name="adj1" fmla="val 50000"/>
              <a:gd name="adj2" fmla="val 7515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AutoShape 13"/>
          <p:cNvSpPr/>
          <p:nvPr/>
        </p:nvSpPr>
        <p:spPr>
          <a:xfrm rot="6993600">
            <a:off x="6170400" y="3484080"/>
            <a:ext cx="342720" cy="114480"/>
          </a:xfrm>
          <a:prstGeom prst="rightArrow">
            <a:avLst>
              <a:gd name="adj1" fmla="val 50000"/>
              <a:gd name="adj2" fmla="val 74843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 rot="5400000">
            <a:off x="5897160" y="4424400"/>
            <a:ext cx="343080" cy="114120"/>
          </a:xfrm>
          <a:prstGeom prst="rightArrow">
            <a:avLst>
              <a:gd name="adj1" fmla="val 50000"/>
              <a:gd name="adj2" fmla="val 7515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5"/>
          <p:cNvSpPr/>
          <p:nvPr/>
        </p:nvSpPr>
        <p:spPr>
          <a:xfrm rot="5400000">
            <a:off x="6811560" y="4424400"/>
            <a:ext cx="343080" cy="114120"/>
          </a:xfrm>
          <a:prstGeom prst="rightArrow">
            <a:avLst>
              <a:gd name="adj1" fmla="val 50000"/>
              <a:gd name="adj2" fmla="val 7515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6"/>
          <p:cNvSpPr/>
          <p:nvPr/>
        </p:nvSpPr>
        <p:spPr>
          <a:xfrm>
            <a:off x="4788000" y="4815000"/>
            <a:ext cx="1601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rtifa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Oval 18"/>
          <p:cNvSpPr/>
          <p:nvPr/>
        </p:nvSpPr>
        <p:spPr>
          <a:xfrm>
            <a:off x="6373800" y="3141720"/>
            <a:ext cx="343080" cy="2286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19"/>
          <p:cNvSpPr/>
          <p:nvPr/>
        </p:nvSpPr>
        <p:spPr>
          <a:xfrm rot="5400000">
            <a:off x="6373440" y="2913120"/>
            <a:ext cx="343080" cy="114120"/>
          </a:xfrm>
          <a:prstGeom prst="rightArrow">
            <a:avLst>
              <a:gd name="adj1" fmla="val 50000"/>
              <a:gd name="adj2" fmla="val 7515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79" name="AutoShape 20"/>
          <p:cNvCxnSpPr>
            <a:stCxn id="366" idx="1"/>
            <a:endCxn id="370" idx="3"/>
          </p:cNvCxnSpPr>
          <p:nvPr/>
        </p:nvCxnSpPr>
        <p:spPr>
          <a:xfrm flipH="1">
            <a:off x="5088960" y="24649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Text Box 21"/>
          <p:cNvSpPr/>
          <p:nvPr/>
        </p:nvSpPr>
        <p:spPr>
          <a:xfrm>
            <a:off x="5003640" y="2149560"/>
            <a:ext cx="13590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forms 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81" name="AutoShape 22"/>
          <p:cNvCxnSpPr>
            <a:stCxn id="368" idx="1"/>
            <a:endCxn id="377" idx="7"/>
          </p:cNvCxnSpPr>
          <p:nvPr/>
        </p:nvCxnSpPr>
        <p:spPr>
          <a:xfrm flipH="1">
            <a:off x="6665400" y="2953800"/>
            <a:ext cx="41040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Text Box 23"/>
          <p:cNvSpPr/>
          <p:nvPr/>
        </p:nvSpPr>
        <p:spPr>
          <a:xfrm>
            <a:off x="6715080" y="4815000"/>
            <a:ext cx="160200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rtifa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29" descr="OMG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5722920"/>
            <a:ext cx="1295280" cy="5144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3" descr=""/>
          <p:cNvPicPr/>
          <p:nvPr/>
        </p:nvPicPr>
        <p:blipFill>
          <a:blip r:embed="rId3"/>
          <a:stretch/>
        </p:blipFill>
        <p:spPr>
          <a:xfrm>
            <a:off x="2340000" y="5734080"/>
            <a:ext cx="1152360" cy="455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75D9-B234-43DB-9248-44AA2CE5686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AFCC-9ABC-472B-AE42-EBD8B81524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aramond"/>
                <a:ea typeface="宋体"/>
              </a:rPr>
              <a:t>Model-Driven Engineering approaches: Software factories &amp; SPL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Verdana"/>
              </a:rPr>
              <a:t>Inspired by manufacturies fac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Verdana"/>
              </a:rPr>
              <a:t>Based 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factory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factory tem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tensible development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ystematic and predictive software reuse (keep best practices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xtensive use of small-size dedicated DSMLs and DS-tool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5" descr="Microsoft-logo"/>
          <p:cNvPicPr/>
          <p:nvPr/>
        </p:nvPicPr>
        <p:blipFill>
          <a:blip r:embed="rId1"/>
          <a:srcRect l="0" t="26939" r="0" b="32590"/>
          <a:stretch/>
        </p:blipFill>
        <p:spPr>
          <a:xfrm>
            <a:off x="6804000" y="5805360"/>
            <a:ext cx="1461960" cy="432000"/>
          </a:xfrm>
          <a:prstGeom prst="rect">
            <a:avLst/>
          </a:prstGeom>
          <a:ln w="0">
            <a:noFill/>
          </a:ln>
        </p:spPr>
      </p:pic>
      <p:sp>
        <p:nvSpPr>
          <p:cNvPr id="391" name="Oval 6"/>
          <p:cNvSpPr/>
          <p:nvPr/>
        </p:nvSpPr>
        <p:spPr>
          <a:xfrm>
            <a:off x="5832360" y="2565360"/>
            <a:ext cx="432000" cy="432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Oval 7"/>
          <p:cNvSpPr/>
          <p:nvPr/>
        </p:nvSpPr>
        <p:spPr>
          <a:xfrm>
            <a:off x="6300720" y="299736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Oval 8"/>
          <p:cNvSpPr/>
          <p:nvPr/>
        </p:nvSpPr>
        <p:spPr>
          <a:xfrm>
            <a:off x="6300720" y="2060640"/>
            <a:ext cx="432000" cy="43164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7093080" y="2060640"/>
            <a:ext cx="431640" cy="43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7740720" y="2492280"/>
            <a:ext cx="431640" cy="4320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96" name="AutoShape 11"/>
          <p:cNvCxnSpPr>
            <a:endCxn id="391" idx="2"/>
          </p:cNvCxnSpPr>
          <p:nvPr/>
        </p:nvCxnSpPr>
        <p:spPr>
          <a:xfrm>
            <a:off x="5545080" y="278100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AutoShape 12"/>
          <p:cNvCxnSpPr>
            <a:stCxn id="391" idx="5"/>
            <a:endCxn id="392" idx="1"/>
          </p:cNvCxnSpPr>
          <p:nvPr/>
        </p:nvCxnSpPr>
        <p:spPr>
          <a:xfrm>
            <a:off x="6200280" y="2933280"/>
            <a:ext cx="16452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AutoShape 13"/>
          <p:cNvCxnSpPr>
            <a:stCxn id="391" idx="7"/>
            <a:endCxn id="393" idx="3"/>
          </p:cNvCxnSpPr>
          <p:nvPr/>
        </p:nvCxnSpPr>
        <p:spPr>
          <a:xfrm flipV="1">
            <a:off x="6200280" y="2428560"/>
            <a:ext cx="16452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AutoShape 14"/>
          <p:cNvCxnSpPr>
            <a:stCxn id="393" idx="6"/>
            <a:endCxn id="394" idx="2"/>
          </p:cNvCxnSpPr>
          <p:nvPr/>
        </p:nvCxnSpPr>
        <p:spPr>
          <a:xfrm>
            <a:off x="6732360" y="227628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AutoShape 15"/>
          <p:cNvCxnSpPr>
            <a:stCxn id="394" idx="6"/>
            <a:endCxn id="395" idx="1"/>
          </p:cNvCxnSpPr>
          <p:nvPr/>
        </p:nvCxnSpPr>
        <p:spPr>
          <a:xfrm>
            <a:off x="7524720" y="2276640"/>
            <a:ext cx="28008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1" name="AutoShape 16"/>
          <p:cNvCxnSpPr>
            <a:stCxn id="392" idx="6"/>
            <a:endCxn id="395" idx="2"/>
          </p:cNvCxnSpPr>
          <p:nvPr/>
        </p:nvCxnSpPr>
        <p:spPr>
          <a:xfrm flipV="1">
            <a:off x="6732720" y="2707920"/>
            <a:ext cx="10087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AutoShape 17"/>
          <p:cNvCxnSpPr>
            <a:stCxn id="395" idx="6"/>
          </p:cNvCxnSpPr>
          <p:nvPr/>
        </p:nvCxnSpPr>
        <p:spPr>
          <a:xfrm>
            <a:off x="8172360" y="2708280"/>
            <a:ext cx="288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6F54-8423-43E5-AAEB-7E0271C56E2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8EB7-3E4F-40E9-8E02-86CE83C11C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aramond"/>
                <a:ea typeface="宋体"/>
              </a:rPr>
              <a:t>Model-Driven Engineering approaches: MIC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968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Verdana"/>
                <a:ea typeface="宋体"/>
              </a:rPr>
              <a:t>Based on DSMLs and a meta-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Verdan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radigms and DSMLs are chosen or designed to generate a specific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he specific environment is used by domain engineers to design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Picture 5" descr="GMELogo6"/>
          <p:cNvPicPr/>
          <p:nvPr/>
        </p:nvPicPr>
        <p:blipFill>
          <a:blip r:embed="rId1"/>
          <a:stretch/>
        </p:blipFill>
        <p:spPr>
          <a:xfrm>
            <a:off x="611280" y="5589720"/>
            <a:ext cx="1800000" cy="49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1535-0D53-4452-BECE-F2AABD77CFB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2D18-8887-4D69-B5E1-F466C190A8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  <a:ea typeface="宋体"/>
              </a:rPr>
              <a:t>Models analysis, testing and qualit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Automated analysis/chec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Check at any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Real-time checking (for some par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Formal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Model transformation to formal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Formal analy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Model-based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Automate test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Model exec/ani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Animate to explore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Model qu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atterns, model/code qu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5435640" y="42940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5499000" y="5280120"/>
            <a:ext cx="137664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rtifa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AutoShape 7"/>
          <p:cNvSpPr/>
          <p:nvPr/>
        </p:nvSpPr>
        <p:spPr>
          <a:xfrm rot="5400000">
            <a:off x="5854320" y="4941720"/>
            <a:ext cx="342720" cy="114120"/>
          </a:xfrm>
          <a:prstGeom prst="rightArrow">
            <a:avLst>
              <a:gd name="adj1" fmla="val 50000"/>
              <a:gd name="adj2" fmla="val 7507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7596360" y="4149720"/>
            <a:ext cx="1143000" cy="55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bstract te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7596360" y="5280120"/>
            <a:ext cx="115236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Executable te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10"/>
          <p:cNvSpPr/>
          <p:nvPr/>
        </p:nvSpPr>
        <p:spPr>
          <a:xfrm rot="5400000">
            <a:off x="7938720" y="4941720"/>
            <a:ext cx="342720" cy="114120"/>
          </a:xfrm>
          <a:prstGeom prst="rightArrow">
            <a:avLst>
              <a:gd name="adj1" fmla="val 50000"/>
              <a:gd name="adj2" fmla="val 7507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20" name="AutoShape 11"/>
          <p:cNvCxnSpPr>
            <a:stCxn id="414" idx="3"/>
            <a:endCxn id="417" idx="1"/>
          </p:cNvCxnSpPr>
          <p:nvPr/>
        </p:nvCxnSpPr>
        <p:spPr>
          <a:xfrm flipV="1">
            <a:off x="6875640" y="4428360"/>
            <a:ext cx="7214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21" name="AutoShape 12"/>
          <p:cNvCxnSpPr>
            <a:stCxn id="415" idx="3"/>
            <a:endCxn id="418" idx="1"/>
          </p:cNvCxnSpPr>
          <p:nvPr/>
        </p:nvCxnSpPr>
        <p:spPr>
          <a:xfrm>
            <a:off x="6875640" y="554328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2" name="Text Box 13"/>
          <p:cNvSpPr/>
          <p:nvPr/>
        </p:nvSpPr>
        <p:spPr>
          <a:xfrm>
            <a:off x="6669000" y="378936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re derived fr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AutoShape 14"/>
          <p:cNvSpPr/>
          <p:nvPr/>
        </p:nvSpPr>
        <p:spPr>
          <a:xfrm>
            <a:off x="7093080" y="4581360"/>
            <a:ext cx="342720" cy="114480"/>
          </a:xfrm>
          <a:prstGeom prst="rightArrow">
            <a:avLst>
              <a:gd name="adj1" fmla="val 50000"/>
              <a:gd name="adj2" fmla="val 74843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6804000" y="5589720"/>
            <a:ext cx="83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an be run again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5292720" y="4941720"/>
            <a:ext cx="3672000" cy="0"/>
          </a:xfrm>
          <a:prstGeom prst="line">
            <a:avLst/>
          </a:prstGeom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Espace réservé de la date 4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A598-44F0-48CD-97BC-95BFD12C74B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Espace réservé du pied de page 5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Espace réservé du numéro de diapositive 6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0454-97E4-49F7-AC95-E947CF2E5D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cc3300"/>
                </a:solidFill>
                <a:latin typeface="Garamond"/>
              </a:rPr>
              <a:t>Model based testing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Online/Off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reate Tests ca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Black-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hite-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ecute test ca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utomat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ctions Semant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Hard to automat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Diagnos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utomat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Localization (hard to trace model/cod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Heuristic based algorith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orrect the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automat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AutoShape 78"/>
          <p:cNvSpPr/>
          <p:nvPr/>
        </p:nvSpPr>
        <p:spPr>
          <a:xfrm>
            <a:off x="6357960" y="3429000"/>
            <a:ext cx="1571760" cy="71424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AutoShape 79"/>
          <p:cNvSpPr/>
          <p:nvPr/>
        </p:nvSpPr>
        <p:spPr>
          <a:xfrm>
            <a:off x="6357960" y="1773360"/>
            <a:ext cx="1571760" cy="57600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 test ca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AutoShape 80"/>
          <p:cNvSpPr/>
          <p:nvPr/>
        </p:nvSpPr>
        <p:spPr>
          <a:xfrm>
            <a:off x="6429240" y="2565360"/>
            <a:ext cx="1428840" cy="576360"/>
          </a:xfrm>
          <a:prstGeom prst="flowChartProcess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Execute test ca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AutoShape 81"/>
          <p:cNvSpPr/>
          <p:nvPr/>
        </p:nvSpPr>
        <p:spPr>
          <a:xfrm>
            <a:off x="6443640" y="4454640"/>
            <a:ext cx="1414440" cy="342720"/>
          </a:xfrm>
          <a:prstGeom prst="flowChartProcess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AutoShape 82"/>
          <p:cNvSpPr/>
          <p:nvPr/>
        </p:nvSpPr>
        <p:spPr>
          <a:xfrm>
            <a:off x="6429240" y="5010120"/>
            <a:ext cx="1428840" cy="939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 found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36" name="AutoShape 83"/>
          <p:cNvCxnSpPr>
            <a:stCxn id="432" idx="2"/>
            <a:endCxn id="433" idx="0"/>
          </p:cNvCxnSpPr>
          <p:nvPr/>
        </p:nvCxnSpPr>
        <p:spPr>
          <a:xfrm>
            <a:off x="7142760" y="2349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7" name="AutoShape 84"/>
          <p:cNvCxnSpPr>
            <a:stCxn id="433" idx="2"/>
            <a:endCxn id="431" idx="0"/>
          </p:cNvCxnSpPr>
          <p:nvPr/>
        </p:nvCxnSpPr>
        <p:spPr>
          <a:xfrm flipH="1">
            <a:off x="7143120" y="31417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AutoShape 85"/>
          <p:cNvCxnSpPr>
            <a:stCxn id="431" idx="2"/>
            <a:endCxn id="434" idx="0"/>
          </p:cNvCxnSpPr>
          <p:nvPr/>
        </p:nvCxnSpPr>
        <p:spPr>
          <a:xfrm>
            <a:off x="7143840" y="4142880"/>
            <a:ext cx="864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AutoShape 86"/>
          <p:cNvCxnSpPr>
            <a:stCxn id="434" idx="2"/>
            <a:endCxn id="435" idx="0"/>
          </p:cNvCxnSpPr>
          <p:nvPr/>
        </p:nvCxnSpPr>
        <p:spPr>
          <a:xfrm flipH="1">
            <a:off x="7143480" y="4797000"/>
            <a:ext cx="864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AutoShape 87"/>
          <p:cNvSpPr/>
          <p:nvPr/>
        </p:nvSpPr>
        <p:spPr>
          <a:xfrm>
            <a:off x="4143240" y="3357720"/>
            <a:ext cx="2013120" cy="823680"/>
          </a:xfrm>
          <a:prstGeom prst="flowChartDecision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1" name="AutoShape 88"/>
          <p:cNvCxnSpPr>
            <a:stCxn id="431" idx="1"/>
            <a:endCxn id="440" idx="3"/>
          </p:cNvCxnSpPr>
          <p:nvPr/>
        </p:nvCxnSpPr>
        <p:spPr>
          <a:xfrm flipH="1" flipV="1">
            <a:off x="6156000" y="3769920"/>
            <a:ext cx="20232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AutoShape 89"/>
          <p:cNvSpPr/>
          <p:nvPr/>
        </p:nvSpPr>
        <p:spPr>
          <a:xfrm>
            <a:off x="4500720" y="4508640"/>
            <a:ext cx="1296720" cy="360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nd of te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3" name="AutoShape 90"/>
          <p:cNvCxnSpPr>
            <a:stCxn id="440" idx="0"/>
          </p:cNvCxnSpPr>
          <p:nvPr/>
        </p:nvCxnSpPr>
        <p:spPr>
          <a:xfrm flipH="1" flipV="1" rot="5400000">
            <a:off x="5076360" y="2133720"/>
            <a:ext cx="1296360" cy="1151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AutoShape 91"/>
          <p:cNvCxnSpPr>
            <a:stCxn id="440" idx="2"/>
            <a:endCxn id="442" idx="0"/>
          </p:cNvCxnSpPr>
          <p:nvPr/>
        </p:nvCxnSpPr>
        <p:spPr>
          <a:xfrm flipH="1">
            <a:off x="5149080" y="4181040"/>
            <a:ext cx="108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AutoShape 92"/>
          <p:cNvSpPr/>
          <p:nvPr/>
        </p:nvSpPr>
        <p:spPr>
          <a:xfrm>
            <a:off x="8001000" y="3995640"/>
            <a:ext cx="890640" cy="64764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Correct the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6" name="AutoShape 93"/>
          <p:cNvCxnSpPr>
            <a:stCxn id="435" idx="3"/>
            <a:endCxn id="445" idx="2"/>
          </p:cNvCxnSpPr>
          <p:nvPr/>
        </p:nvCxnSpPr>
        <p:spPr>
          <a:xfrm flipV="1">
            <a:off x="7858080" y="4642920"/>
            <a:ext cx="589680" cy="837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94"/>
          <p:cNvCxnSpPr>
            <a:stCxn id="445" idx="0"/>
            <a:endCxn id="433" idx="3"/>
          </p:cNvCxnSpPr>
          <p:nvPr/>
        </p:nvCxnSpPr>
        <p:spPr>
          <a:xfrm flipV="1" rot="16200000">
            <a:off x="7581600" y="3129840"/>
            <a:ext cx="1141920" cy="589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AutoShape 95"/>
          <p:cNvCxnSpPr>
            <a:stCxn id="435" idx="2"/>
            <a:endCxn id="432" idx="0"/>
          </p:cNvCxnSpPr>
          <p:nvPr/>
        </p:nvCxnSpPr>
        <p:spPr>
          <a:xfrm flipV="1" rot="16200000">
            <a:off x="5055840" y="3861720"/>
            <a:ext cx="4177440" cy="2160"/>
          </a:xfrm>
          <a:prstGeom prst="bentConnector5">
            <a:avLst>
              <a:gd name="adj1" fmla="val -5464"/>
              <a:gd name="adj2" fmla="val -115260000"/>
              <a:gd name="adj3" fmla="val 1054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Text Box 96"/>
          <p:cNvSpPr/>
          <p:nvPr/>
        </p:nvSpPr>
        <p:spPr>
          <a:xfrm>
            <a:off x="7236000" y="58770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Text Box 97"/>
          <p:cNvSpPr/>
          <p:nvPr/>
        </p:nvSpPr>
        <p:spPr>
          <a:xfrm>
            <a:off x="7164360" y="40766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Text Box 98"/>
          <p:cNvSpPr/>
          <p:nvPr/>
        </p:nvSpPr>
        <p:spPr>
          <a:xfrm>
            <a:off x="5148360" y="29973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99"/>
          <p:cNvSpPr/>
          <p:nvPr/>
        </p:nvSpPr>
        <p:spPr>
          <a:xfrm>
            <a:off x="6083280" y="3860640"/>
            <a:ext cx="576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00"/>
          <p:cNvSpPr/>
          <p:nvPr/>
        </p:nvSpPr>
        <p:spPr>
          <a:xfrm>
            <a:off x="5326200" y="4149720"/>
            <a:ext cx="596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Text Box 101"/>
          <p:cNvSpPr/>
          <p:nvPr/>
        </p:nvSpPr>
        <p:spPr>
          <a:xfrm>
            <a:off x="7740720" y="5133960"/>
            <a:ext cx="585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D8E5-6B60-4EA6-81BB-A020FE8E2A3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E5CC-B947-4743-A880-4A8D4F1792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  <a:ea typeface="宋体"/>
              </a:rPr>
              <a:t>Separation of concern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 with crosscutting conc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rn-specific viewpoints and ont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the required viewpoint in a meta-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 the various viewpoints with ontolo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pect Oriented Modeling (AO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aise concepts used in AOP to 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odel wea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 various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7594560" y="4221000"/>
            <a:ext cx="289080" cy="20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 Arch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7956720" y="4221000"/>
            <a:ext cx="288720" cy="208764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 Beha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8315280" y="4221000"/>
            <a:ext cx="289080" cy="2087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 Com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8675640" y="4221000"/>
            <a:ext cx="289080" cy="208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 D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Freeform 9"/>
          <p:cNvSpPr/>
          <p:nvPr/>
        </p:nvSpPr>
        <p:spPr>
          <a:xfrm>
            <a:off x="6586560" y="5842080"/>
            <a:ext cx="2568600" cy="3952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6372360" y="573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9D3B-C56F-4D15-8804-E54F4718974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2278-91B2-4128-B8E2-EB99A7EF48A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aramond"/>
                <a:ea typeface="宋体"/>
              </a:rPr>
              <a:t>Model transformation and management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Garamond"/>
                <a:ea typeface="宋体"/>
              </a:rPr>
              <a:t>Forward and reverse engineering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ward engineer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“the traditional process of moving from high-level abstractions and logical, implementation-independent designs to the physical implementation of a system.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verse engineer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the opposite process, namely create representations of the system at a higher level of abstraction by identifying the system's components and their interrelationship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oundtrip engineer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capacity to offer both forward and reverse engineering for simultaneous synchroniza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AutoShape 4"/>
          <p:cNvSpPr/>
          <p:nvPr/>
        </p:nvSpPr>
        <p:spPr>
          <a:xfrm rot="10800000">
            <a:off x="394920" y="2060280"/>
            <a:ext cx="289080" cy="863640"/>
          </a:xfrm>
          <a:prstGeom prst="upArrow">
            <a:avLst>
              <a:gd name="adj1" fmla="val 50000"/>
              <a:gd name="adj2" fmla="val 7468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395280" y="3645000"/>
            <a:ext cx="289080" cy="863640"/>
          </a:xfrm>
          <a:prstGeom prst="upArrow">
            <a:avLst>
              <a:gd name="adj1" fmla="val 50000"/>
              <a:gd name="adj2" fmla="val 74689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AutoShape 6"/>
          <p:cNvSpPr/>
          <p:nvPr/>
        </p:nvSpPr>
        <p:spPr>
          <a:xfrm rot="16200000">
            <a:off x="358560" y="5410080"/>
            <a:ext cx="720720" cy="215640"/>
          </a:xfrm>
          <a:custGeom>
            <a:avLst/>
            <a:gdLst>
              <a:gd name="textAreaLeft" fmla="*/ 126000 w 720720"/>
              <a:gd name="textAreaRight" fmla="*/ 522720 w 72072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AutoShape 7"/>
          <p:cNvSpPr/>
          <p:nvPr/>
        </p:nvSpPr>
        <p:spPr>
          <a:xfrm rot="5209200">
            <a:off x="68400" y="5479200"/>
            <a:ext cx="720720" cy="214200"/>
          </a:xfrm>
          <a:custGeom>
            <a:avLst/>
            <a:gdLst>
              <a:gd name="textAreaLeft" fmla="*/ 126000 w 720720"/>
              <a:gd name="textAreaRight" fmla="*/ 522720 w 7207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3F9C-F818-4E18-9B31-66F7E783CF0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D9CD-07A2-4834-92FD-93643B87F5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Reverse engineering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3038040"/>
            <a:ext cx="822960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chron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legacy systems: software moder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rchitecture-Driven Moderniz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D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nowledge Discovery Meta-model (KD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is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419640" y="1700280"/>
            <a:ext cx="1485720" cy="2171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Real worl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7305840" y="1700280"/>
            <a:ext cx="1587240" cy="2171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odeling worl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AutoShape 6"/>
          <p:cNvSpPr/>
          <p:nvPr/>
        </p:nvSpPr>
        <p:spPr>
          <a:xfrm>
            <a:off x="5019840" y="3529080"/>
            <a:ext cx="2171520" cy="547560"/>
          </a:xfrm>
          <a:prstGeom prst="rightArrow">
            <a:avLst>
              <a:gd name="adj1" fmla="val 50000"/>
              <a:gd name="adj2" fmla="val 9914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Oval 7"/>
          <p:cNvSpPr/>
          <p:nvPr/>
        </p:nvSpPr>
        <p:spPr>
          <a:xfrm>
            <a:off x="3533760" y="2843280"/>
            <a:ext cx="1257480" cy="57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5477040" y="3300480"/>
            <a:ext cx="1143000" cy="342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iscover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7419960" y="2957400"/>
            <a:ext cx="125748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7419960" y="2044800"/>
            <a:ext cx="1257480" cy="34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a-mod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87" name="AutoShape 11"/>
          <p:cNvCxnSpPr/>
          <p:nvPr/>
        </p:nvCxnSpPr>
        <p:spPr>
          <a:xfrm flipV="1">
            <a:off x="7665840" y="23853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AutoShape 12"/>
          <p:cNvCxnSpPr/>
          <p:nvPr/>
        </p:nvCxnSpPr>
        <p:spPr>
          <a:xfrm flipH="1">
            <a:off x="4790880" y="3129120"/>
            <a:ext cx="2629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Text Box 13"/>
          <p:cNvSpPr/>
          <p:nvPr/>
        </p:nvSpPr>
        <p:spPr>
          <a:xfrm>
            <a:off x="4905360" y="2852640"/>
            <a:ext cx="1179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pres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14"/>
          <p:cNvSpPr/>
          <p:nvPr/>
        </p:nvSpPr>
        <p:spPr>
          <a:xfrm>
            <a:off x="7738920" y="2565360"/>
            <a:ext cx="1405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forms 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15"/>
          <p:cNvSpPr/>
          <p:nvPr/>
        </p:nvSpPr>
        <p:spPr>
          <a:xfrm>
            <a:off x="5591160" y="3643200"/>
            <a:ext cx="102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iscove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92" name="AutoShape 16"/>
          <p:cNvCxnSpPr/>
          <p:nvPr/>
        </p:nvCxnSpPr>
        <p:spPr>
          <a:xfrm flipV="1" rot="10800000">
            <a:off x="6047640" y="2215800"/>
            <a:ext cx="1372320" cy="1085040"/>
          </a:xfrm>
          <a:prstGeom prst="bentConnector2">
            <a:avLst/>
          </a:prstGeom>
          <a:ln w="38160">
            <a:solidFill>
              <a:srgbClr val="cc3300"/>
            </a:solidFill>
            <a:prstDash val="dash"/>
            <a:miter/>
            <a:tailEnd len="med" type="triangle" w="med"/>
          </a:ln>
        </p:spPr>
      </p:cxnSp>
      <p:sp>
        <p:nvSpPr>
          <p:cNvPr id="493" name="Text Box 17"/>
          <p:cNvSpPr/>
          <p:nvPr/>
        </p:nvSpPr>
        <p:spPr>
          <a:xfrm>
            <a:off x="5218200" y="1862280"/>
            <a:ext cx="1944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a-model-Driv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e la date 4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4CF0-B7E9-4B98-AC24-433333909E0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Espace réservé du pied de page 5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Espace réservé du numéro de diapositive 6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7738-2A47-4338-A142-3B2B4A854F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Model transformation: concept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457200" y="1600200"/>
          <a:ext cx="8229600" cy="3124080"/>
        </p:xfrm>
        <a:graphic>
          <a:graphicData uri="http://schemas.openxmlformats.org/drawingml/2006/table">
            <a:tbl>
              <a:tblPr/>
              <a:tblGrid>
                <a:gridCol w="3898800"/>
                <a:gridCol w="4330800"/>
              </a:tblGrid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ical transform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rizontal transform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tr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facto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in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orm a source model to a target model (code is sort of mod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meta-model source = meta-model target the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dogeno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ls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ogen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AutoShape 122"/>
          <p:cNvSpPr/>
          <p:nvPr/>
        </p:nvSpPr>
        <p:spPr>
          <a:xfrm rot="10800000">
            <a:off x="755640" y="3933720"/>
            <a:ext cx="216000" cy="503280"/>
          </a:xfrm>
          <a:prstGeom prst="upArrow">
            <a:avLst>
              <a:gd name="adj1" fmla="val 50000"/>
              <a:gd name="adj2" fmla="val 5825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AutoShape 123"/>
          <p:cNvSpPr/>
          <p:nvPr/>
        </p:nvSpPr>
        <p:spPr>
          <a:xfrm>
            <a:off x="755640" y="2852640"/>
            <a:ext cx="216000" cy="503280"/>
          </a:xfrm>
          <a:prstGeom prst="upArrow">
            <a:avLst>
              <a:gd name="adj1" fmla="val 50000"/>
              <a:gd name="adj2" fmla="val 5825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Oval 124"/>
          <p:cNvSpPr/>
          <p:nvPr/>
        </p:nvSpPr>
        <p:spPr>
          <a:xfrm>
            <a:off x="4500720" y="2779560"/>
            <a:ext cx="144360" cy="144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Oval 125"/>
          <p:cNvSpPr/>
          <p:nvPr/>
        </p:nvSpPr>
        <p:spPr>
          <a:xfrm>
            <a:off x="4932360" y="277956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04" name="AutoShape 126"/>
          <p:cNvCxnSpPr>
            <a:stCxn id="502" idx="6"/>
            <a:endCxn id="503" idx="2"/>
          </p:cNvCxnSpPr>
          <p:nvPr/>
        </p:nvCxnSpPr>
        <p:spPr>
          <a:xfrm>
            <a:off x="4645080" y="2852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Oval 127"/>
          <p:cNvSpPr/>
          <p:nvPr/>
        </p:nvSpPr>
        <p:spPr>
          <a:xfrm>
            <a:off x="4500720" y="31417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06" name="AutoShape 129"/>
          <p:cNvCxnSpPr>
            <a:stCxn id="505" idx="6"/>
            <a:endCxn id="507" idx="1"/>
          </p:cNvCxnSpPr>
          <p:nvPr/>
        </p:nvCxnSpPr>
        <p:spPr>
          <a:xfrm>
            <a:off x="4645080" y="3214800"/>
            <a:ext cx="28800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132"/>
          <p:cNvCxnSpPr>
            <a:stCxn id="509" idx="6"/>
            <a:endCxn id="510" idx="1"/>
          </p:cNvCxnSpPr>
          <p:nvPr/>
        </p:nvCxnSpPr>
        <p:spPr>
          <a:xfrm flipV="1">
            <a:off x="4645080" y="3789000"/>
            <a:ext cx="2880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Oval 133"/>
          <p:cNvSpPr/>
          <p:nvPr/>
        </p:nvSpPr>
        <p:spPr>
          <a:xfrm>
            <a:off x="4500720" y="436392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12" name="AutoShape 135"/>
          <p:cNvCxnSpPr>
            <a:stCxn id="511" idx="6"/>
            <a:endCxn id="513" idx="1"/>
          </p:cNvCxnSpPr>
          <p:nvPr/>
        </p:nvCxnSpPr>
        <p:spPr>
          <a:xfrm flipV="1">
            <a:off x="4645080" y="4435200"/>
            <a:ext cx="288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Rectangle 136"/>
          <p:cNvSpPr/>
          <p:nvPr/>
        </p:nvSpPr>
        <p:spPr>
          <a:xfrm>
            <a:off x="4932360" y="4363920"/>
            <a:ext cx="144360" cy="142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14" name="AutoShape 138"/>
          <p:cNvCxnSpPr>
            <a:stCxn id="509" idx="6"/>
            <a:endCxn id="515" idx="1"/>
          </p:cNvCxnSpPr>
          <p:nvPr/>
        </p:nvCxnSpPr>
        <p:spPr>
          <a:xfrm>
            <a:off x="4645080" y="3933720"/>
            <a:ext cx="28800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AutoShape 140"/>
          <p:cNvCxnSpPr>
            <a:stCxn id="517" idx="3"/>
            <a:endCxn id="507" idx="1"/>
          </p:cNvCxnSpPr>
          <p:nvPr/>
        </p:nvCxnSpPr>
        <p:spPr>
          <a:xfrm flipV="1">
            <a:off x="4642920" y="3392280"/>
            <a:ext cx="28944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Rectangle 141"/>
          <p:cNvSpPr/>
          <p:nvPr/>
        </p:nvSpPr>
        <p:spPr>
          <a:xfrm>
            <a:off x="4500720" y="3429000"/>
            <a:ext cx="14256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AutoShape 142"/>
          <p:cNvSpPr/>
          <p:nvPr/>
        </p:nvSpPr>
        <p:spPr>
          <a:xfrm>
            <a:off x="4932360" y="3284640"/>
            <a:ext cx="216000" cy="215640"/>
          </a:xfrm>
          <a:prstGeom prst="diamond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AutoShape 143"/>
          <p:cNvSpPr/>
          <p:nvPr/>
        </p:nvSpPr>
        <p:spPr>
          <a:xfrm>
            <a:off x="4932360" y="3933720"/>
            <a:ext cx="216000" cy="216000"/>
          </a:xfrm>
          <a:prstGeom prst="diamond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Oval 144"/>
          <p:cNvSpPr/>
          <p:nvPr/>
        </p:nvSpPr>
        <p:spPr>
          <a:xfrm>
            <a:off x="4500720" y="386064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Rectangle 145"/>
          <p:cNvSpPr/>
          <p:nvPr/>
        </p:nvSpPr>
        <p:spPr>
          <a:xfrm>
            <a:off x="4932360" y="3716280"/>
            <a:ext cx="1429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56BB-C03D-442D-A6F7-6C4189894D4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6155-5DAE-424F-AD39-75E9AB53813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  <a:ea typeface="宋体"/>
              </a:rPr>
              <a:t>Modeling Transformation Language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VT by the OM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mperative, template-based, declarativ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TL by INRIA (answer to QVT’s RF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3544920" y="3429000"/>
            <a:ext cx="25398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ta-meta-model (Ecore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6588000" y="4292640"/>
            <a:ext cx="1905120" cy="5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ta-model tar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042920" y="4292640"/>
            <a:ext cx="1908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ta-model sou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4067280" y="4365720"/>
            <a:ext cx="151272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T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1042920" y="5159520"/>
            <a:ext cx="1908360" cy="3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del sou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6588000" y="5159520"/>
            <a:ext cx="1908360" cy="3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del tar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29" name="AutoShape 10"/>
          <p:cNvCxnSpPr>
            <a:stCxn id="525" idx="0"/>
            <a:endCxn id="523" idx="1"/>
          </p:cNvCxnSpPr>
          <p:nvPr/>
        </p:nvCxnSpPr>
        <p:spPr>
          <a:xfrm flipV="1">
            <a:off x="1996920" y="3789000"/>
            <a:ext cx="15487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AutoShape 11"/>
          <p:cNvCxnSpPr>
            <a:stCxn id="526" idx="0"/>
            <a:endCxn id="523" idx="2"/>
          </p:cNvCxnSpPr>
          <p:nvPr/>
        </p:nvCxnSpPr>
        <p:spPr>
          <a:xfrm flipH="1" flipV="1">
            <a:off x="4814640" y="4149360"/>
            <a:ext cx="10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1" name="AutoShape 12"/>
          <p:cNvCxnSpPr>
            <a:stCxn id="524" idx="0"/>
            <a:endCxn id="523" idx="3"/>
          </p:cNvCxnSpPr>
          <p:nvPr/>
        </p:nvCxnSpPr>
        <p:spPr>
          <a:xfrm flipH="1" flipV="1">
            <a:off x="6084360" y="3789000"/>
            <a:ext cx="14565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AutoShape 13"/>
          <p:cNvCxnSpPr>
            <a:stCxn id="527" idx="0"/>
            <a:endCxn id="525" idx="2"/>
          </p:cNvCxnSpPr>
          <p:nvPr/>
        </p:nvCxnSpPr>
        <p:spPr>
          <a:xfrm flipV="1">
            <a:off x="1996560" y="4941000"/>
            <a:ext cx="108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AutoShape 14"/>
          <p:cNvCxnSpPr>
            <a:stCxn id="528" idx="0"/>
            <a:endCxn id="524" idx="2"/>
          </p:cNvCxnSpPr>
          <p:nvPr/>
        </p:nvCxnSpPr>
        <p:spPr>
          <a:xfrm flipH="1" flipV="1">
            <a:off x="7539840" y="4801320"/>
            <a:ext cx="252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4" name="Text Box 15"/>
          <p:cNvSpPr/>
          <p:nvPr/>
        </p:nvSpPr>
        <p:spPr>
          <a:xfrm>
            <a:off x="3564000" y="4941720"/>
            <a:ext cx="2520720" cy="4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formation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35" name="AutoShape 16"/>
          <p:cNvCxnSpPr>
            <a:stCxn id="534" idx="0"/>
            <a:endCxn id="526" idx="2"/>
          </p:cNvCxnSpPr>
          <p:nvPr/>
        </p:nvCxnSpPr>
        <p:spPr>
          <a:xfrm flipV="1">
            <a:off x="4824000" y="4693680"/>
            <a:ext cx="1080" cy="2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6" name="Line 17"/>
          <p:cNvSpPr/>
          <p:nvPr/>
        </p:nvSpPr>
        <p:spPr>
          <a:xfrm>
            <a:off x="1403280" y="5896080"/>
            <a:ext cx="693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18"/>
          <p:cNvSpPr/>
          <p:nvPr/>
        </p:nvSpPr>
        <p:spPr>
          <a:xfrm>
            <a:off x="2028960" y="5665680"/>
            <a:ext cx="2311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forms 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38" name="AutoShape 19"/>
          <p:cNvCxnSpPr>
            <a:stCxn id="527" idx="3"/>
            <a:endCxn id="528" idx="1"/>
          </p:cNvCxnSpPr>
          <p:nvPr/>
        </p:nvCxnSpPr>
        <p:spPr>
          <a:xfrm>
            <a:off x="2951280" y="5322600"/>
            <a:ext cx="3637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39" name="Line 20"/>
          <p:cNvSpPr/>
          <p:nvPr/>
        </p:nvSpPr>
        <p:spPr>
          <a:xfrm>
            <a:off x="1403280" y="6113520"/>
            <a:ext cx="6937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40" name="AutoShape 21"/>
          <p:cNvCxnSpPr>
            <a:stCxn id="523" idx="1"/>
            <a:endCxn id="523" idx="0"/>
          </p:cNvCxnSpPr>
          <p:nvPr/>
        </p:nvCxnSpPr>
        <p:spPr>
          <a:xfrm flipH="1" rot="10800000">
            <a:off x="3544560" y="3428280"/>
            <a:ext cx="1270800" cy="361080"/>
          </a:xfrm>
          <a:prstGeom prst="bentConnector4">
            <a:avLst>
              <a:gd name="adj1" fmla="val -17993"/>
              <a:gd name="adj2" fmla="val 1633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The Mickey system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C2BD-600B-48A0-BF82-95D15AA1F4E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BA36-34F5-4AFB-AB40-FDC74A5A154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llipse 7"/>
          <p:cNvSpPr/>
          <p:nvPr/>
        </p:nvSpPr>
        <p:spPr>
          <a:xfrm>
            <a:off x="2143080" y="1714680"/>
            <a:ext cx="1857600" cy="1928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Ellipse 8"/>
          <p:cNvSpPr/>
          <p:nvPr/>
        </p:nvSpPr>
        <p:spPr>
          <a:xfrm>
            <a:off x="5214960" y="1714680"/>
            <a:ext cx="1857240" cy="1928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llipse 6"/>
          <p:cNvSpPr/>
          <p:nvPr/>
        </p:nvSpPr>
        <p:spPr>
          <a:xfrm>
            <a:off x="2928960" y="2500200"/>
            <a:ext cx="3429000" cy="32860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ystem V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Ellipse 9"/>
          <p:cNvSpPr/>
          <p:nvPr/>
        </p:nvSpPr>
        <p:spPr>
          <a:xfrm>
            <a:off x="4286160" y="4268880"/>
            <a:ext cx="714600" cy="731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llipse 10"/>
          <p:cNvSpPr/>
          <p:nvPr/>
        </p:nvSpPr>
        <p:spPr>
          <a:xfrm>
            <a:off x="3571920" y="5286240"/>
            <a:ext cx="2143080" cy="2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Ellipse 11"/>
          <p:cNvSpPr/>
          <p:nvPr/>
        </p:nvSpPr>
        <p:spPr>
          <a:xfrm>
            <a:off x="5000760" y="3143160"/>
            <a:ext cx="714240" cy="731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llipse 12"/>
          <p:cNvSpPr/>
          <p:nvPr/>
        </p:nvSpPr>
        <p:spPr>
          <a:xfrm>
            <a:off x="3643200" y="3143160"/>
            <a:ext cx="714600" cy="731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4005360"/>
            <a:ext cx="792360" cy="14396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3FE4-A8BD-4B5C-9E91-E0DBB74252B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6DA5-AD78-4548-90CD-C624D2C8078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Model transformation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ormation eng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 to Text (M2T): code generators (or model compil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 to Model (M2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 to Model (T2M): relevant for software moder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odel transformation and model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of transformations and transformation engines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BDCC-77D4-4C42-8E32-1BC7A6C2CE0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B7F2-C07A-42E9-9FAA-4E60DC9337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Model managemen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sito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WN (I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Mega-modeling, modeling in the large, C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I (XML Metadata Interchan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-Usable Textual Notation (HUT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time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enance, monitoring, adapt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el management based on meta-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M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Espace réservé de la date 4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EF2A-683A-462D-827B-A7ADCB910DE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Espace réservé du pied de page 5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Espace réservé du numéro de diapositive 6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45AD-0DF2-4A79-B682-C6D18C496E4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  <a:ea typeface="宋体"/>
              </a:rPr>
              <a:t>Models in lifecycle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ear and Iterativ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P, Open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weight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ople-orien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ouble Y cy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entered on 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AutoShape 5"/>
          <p:cNvSpPr/>
          <p:nvPr/>
        </p:nvSpPr>
        <p:spPr>
          <a:xfrm rot="2838600">
            <a:off x="5204880" y="2763720"/>
            <a:ext cx="793800" cy="228600"/>
          </a:xfrm>
          <a:prstGeom prst="rightArrow">
            <a:avLst>
              <a:gd name="adj1" fmla="val 50000"/>
              <a:gd name="adj2" fmla="val 86811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AutoShape 6"/>
          <p:cNvSpPr/>
          <p:nvPr/>
        </p:nvSpPr>
        <p:spPr>
          <a:xfrm rot="2823000">
            <a:off x="5830560" y="3509640"/>
            <a:ext cx="793440" cy="225360"/>
          </a:xfrm>
          <a:prstGeom prst="rightArrow">
            <a:avLst>
              <a:gd name="adj1" fmla="val 50000"/>
              <a:gd name="adj2" fmla="val 88019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AutoShape 7"/>
          <p:cNvSpPr/>
          <p:nvPr/>
        </p:nvSpPr>
        <p:spPr>
          <a:xfrm rot="5400000">
            <a:off x="6292800" y="4194000"/>
            <a:ext cx="679320" cy="225360"/>
          </a:xfrm>
          <a:prstGeom prst="rightArrow">
            <a:avLst>
              <a:gd name="adj1" fmla="val 50000"/>
              <a:gd name="adj2" fmla="val 753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AutoShape 8"/>
          <p:cNvSpPr/>
          <p:nvPr/>
        </p:nvSpPr>
        <p:spPr>
          <a:xfrm rot="8207400">
            <a:off x="6636960" y="3510000"/>
            <a:ext cx="793800" cy="2268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4427640" y="2278080"/>
            <a:ext cx="1371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unctional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AutoShape 10"/>
          <p:cNvSpPr/>
          <p:nvPr/>
        </p:nvSpPr>
        <p:spPr>
          <a:xfrm rot="8052600">
            <a:off x="5889240" y="2764800"/>
            <a:ext cx="793800" cy="225720"/>
          </a:xfrm>
          <a:prstGeom prst="rightArrow">
            <a:avLst>
              <a:gd name="adj1" fmla="val 50000"/>
              <a:gd name="adj2" fmla="val 87919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6588000" y="2205000"/>
            <a:ext cx="1871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n-functional and safety analysis (Qo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7308720" y="3286080"/>
            <a:ext cx="1835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afety architecture, platform specific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4932360" y="3502080"/>
            <a:ext cx="1486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dependent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6745320" y="4309920"/>
            <a:ext cx="2074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latform specific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AutoShape 15"/>
          <p:cNvSpPr/>
          <p:nvPr/>
        </p:nvSpPr>
        <p:spPr>
          <a:xfrm>
            <a:off x="5524560" y="5276880"/>
            <a:ext cx="368280" cy="228600"/>
          </a:xfrm>
          <a:prstGeom prst="rightArrow">
            <a:avLst>
              <a:gd name="adj1" fmla="val 50000"/>
              <a:gd name="adj2" fmla="val 4027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AutoShape 16"/>
          <p:cNvSpPr/>
          <p:nvPr/>
        </p:nvSpPr>
        <p:spPr>
          <a:xfrm>
            <a:off x="5524560" y="5516640"/>
            <a:ext cx="368280" cy="228600"/>
          </a:xfrm>
          <a:prstGeom prst="rightArrow">
            <a:avLst>
              <a:gd name="adj1" fmla="val 50000"/>
              <a:gd name="adj2" fmla="val 40276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Text Box 17"/>
          <p:cNvSpPr/>
          <p:nvPr/>
        </p:nvSpPr>
        <p:spPr>
          <a:xfrm>
            <a:off x="5867280" y="5229360"/>
            <a:ext cx="302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 Platform depedant/specific s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 Platform independant s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A4E7-638A-4F5B-A37E-4939C966A65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C965-D31A-4A2F-BC8E-CDE3B43967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Tooling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ing environ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ational Softwa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IBM)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ridgepoi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Mentor Graphics)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ogeth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Borland)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eer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Rhapsody (Telelogic), Visual Studio (MS)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opc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-modeling environ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GEMS, KerMeta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Eclipse Modeling Framewor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clipse Commun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1D59-690F-44E7-B961-A7525F41E6B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1DC9-0D9E-46E8-A766-D83A29D0F08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Tooling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alysis and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lloy Analyz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Atelier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Uppa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2M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oAW, ATL Engine, GMT (Eclip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2T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Acceleo, oA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MOFScri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verse-engineering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oAW (TMF), MoDis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GrammarWare, KDM-Analy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el management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KerMeta, AMW (Eclipse), OpenMD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el-Driven Development integration (MDDi, also known as ModelBu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3300"/>
                </a:solidFill>
                <a:latin typeface="Garamond"/>
              </a:rPr>
              <a:t>Tooling: toolchai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80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1B59-510E-4672-9B5D-8F292B44F12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1A8B-2630-43E9-959C-5B0F398AF0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3" name="Picture 2" descr="http://www.eclipse.org/mddi/overview.png"/>
          <p:cNvPicPr/>
          <p:nvPr/>
        </p:nvPicPr>
        <p:blipFill>
          <a:blip r:embed="rId1"/>
          <a:stretch/>
        </p:blipFill>
        <p:spPr>
          <a:xfrm>
            <a:off x="785880" y="1714680"/>
            <a:ext cx="7500960" cy="4508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2A30-FF07-43F1-958C-A5F19CCB984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BFA4-C0C1-45E8-A12D-B0323828C4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Adopti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eaders and suppli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T and computer sciences indus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BM, Microsoft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Institutions and comm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OMG, Eclipse Commun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&amp;D and early-adop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DAC9-8514-4847-B30E-EDFE969604E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0016-F2F9-4874-A103-6ED868B37D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Opportunitie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ncreased productivity and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us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aintainability and Repea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estability and analyz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aptability and flex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stainability and expertise cap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oder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6A24-2E01-46BF-9807-80451EB0BB9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0227-8F99-4A03-9AC1-7BDB5A067F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hallenge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GPML vs. DS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nalysis and testing 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oC 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odel transformation/manipulation 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odel management 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ooling 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ack of pract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ifecycles and social 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1F85-13C3-4D23-901F-ABFD9A2A8D0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849B-0A69-462D-9630-6C118A036E7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cc3300"/>
                </a:solidFill>
                <a:latin typeface="Garamond"/>
              </a:rPr>
              <a:t>Critics against modeling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els lack the details required to contain the same information as source co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nsider modeling as necessary but do not believe in models as programming languag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gainst UML, xtUML or any modeling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 compl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enou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d experience with CASE in the 90s: modeling is bo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e la date 2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FBDB-3B5E-4035-A342-C64D690C312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Espace réservé du pied de page 3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1A8F-2024-407E-8578-B43B0F47B22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j0115538"/>
          <p:cNvPicPr/>
          <p:nvPr/>
        </p:nvPicPr>
        <p:blipFill>
          <a:blip r:embed="rId1"/>
          <a:stretch/>
        </p:blipFill>
        <p:spPr>
          <a:xfrm>
            <a:off x="6732720" y="3809880"/>
            <a:ext cx="2286000" cy="22114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6"/>
          <p:cNvSpPr/>
          <p:nvPr/>
        </p:nvSpPr>
        <p:spPr>
          <a:xfrm>
            <a:off x="755640" y="1576440"/>
            <a:ext cx="5616720" cy="4176720"/>
          </a:xfrm>
          <a:prstGeom prst="wedgeRectCallout">
            <a:avLst>
              <a:gd name="adj1" fmla="val 60513"/>
              <a:gd name="adj2" fmla="val 30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828720" y="1720800"/>
            <a:ext cx="54720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on’t want to pay expensive development to port our systems to a new platform while our application domain is stable. We have already invested in that kind of migration with no real RO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pay once to build abstract models that capture definitively our application domain and that prevent from obsolescence of platform technologi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, platform suppliers will have to provide with transformation tools to generate implementation for their platform from our neutral model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razy bos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2D36-9E44-487E-8187-1AF0F8DEAE5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C80B-CC0F-432E-9BB2-4944C1A746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DE is not mainstr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hallenges need ans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exible meta-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SML in the trend but SysML and xtUML are promising approa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implementations: effort on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35C2-EE2E-4EC0-8F2B-B51CC50BEBC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0D0C-D4FD-4F91-B420-9629FDD4201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Tack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362400"/>
            <a:ext cx="64008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? Suggestions? Comment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lorian.noyrit@gmail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5ED2-94ED-46A5-B5F2-F81A23551AD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2E9D-F8AF-4A74-BA27-198799A8A4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aramond"/>
              </a:rPr>
              <a:t>The answer of the Software Engineering community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ising the level of abs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arate application domain from software architecture (Domain Analysis/Implementa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becomes the primary artif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162D-007A-4733-89FC-11520AA3E34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9E7B-6116-491E-96A7-3A3F28DA2C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Model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represents something with less detai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is an abstraction of somet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capture expertise in the long te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cost less than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6" name="AutoShape 7"/>
          <p:cNvCxnSpPr/>
          <p:nvPr/>
        </p:nvCxnSpPr>
        <p:spPr>
          <a:xfrm>
            <a:off x="4078080" y="5239800"/>
            <a:ext cx="149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Text Box 8"/>
          <p:cNvSpPr/>
          <p:nvPr/>
        </p:nvSpPr>
        <p:spPr>
          <a:xfrm>
            <a:off x="4122720" y="5300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12" descr="http://medias.lemonde.fr/mmpub/edt/ill/2005/03/17/h_3_ill_627020_cl_millau_pont_reuters.jpg"/>
          <p:cNvPicPr/>
          <p:nvPr/>
        </p:nvPicPr>
        <p:blipFill>
          <a:blip r:embed="rId1"/>
          <a:stretch/>
        </p:blipFill>
        <p:spPr>
          <a:xfrm>
            <a:off x="5572080" y="4286160"/>
            <a:ext cx="2857680" cy="1906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http://www.timbresponts.fr/articles_et_publications/gisclardimages/lezardrieuxplans.jpg"/>
          <p:cNvPicPr/>
          <p:nvPr/>
        </p:nvPicPr>
        <p:blipFill>
          <a:blip r:embed="rId2"/>
          <a:srcRect l="9869" t="60627" r="8136" b="0"/>
          <a:stretch/>
        </p:blipFill>
        <p:spPr>
          <a:xfrm>
            <a:off x="285840" y="4714920"/>
            <a:ext cx="3792600" cy="1049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EAA8-EE8E-46A4-A60F-65AA0944067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F2D9-C5D6-40D0-B9B5-652F1A9868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Ways of using model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s as sket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ly communication support and part of docu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s as blueprints (complet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er develop the model, programmer code-up th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s as programming language (execu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del is the primary artif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e la date 3"/>
          <p:cNvSpPr/>
          <p:nvPr/>
        </p:nvSpPr>
        <p:spPr>
          <a:xfrm>
            <a:off x="45720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03DF-2C6B-4361-86DE-173DB7C9BF6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ce réservé du pied de page 4"/>
          <p:cNvSpPr/>
          <p:nvPr/>
        </p:nvSpPr>
        <p:spPr>
          <a:xfrm>
            <a:off x="3124080" y="6381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verview of MB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Espace réservé du numéro de diapositive 5"/>
          <p:cNvSpPr/>
          <p:nvPr/>
        </p:nvSpPr>
        <p:spPr>
          <a:xfrm>
            <a:off x="655308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043F-8E1C-47DA-BBAC-0275F2C67D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Towards Model-Driven Engineering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Verdana"/>
                <a:ea typeface="宋体"/>
              </a:rPr>
              <a:t>Shift from code-centric to model-centric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Verdana"/>
                <a:ea typeface="宋体"/>
              </a:rPr>
              <a:t>Automation of the development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Verdana"/>
              </a:rPr>
              <a:t>Systematic use of models and meta-mode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Verdana"/>
              </a:rPr>
              <a:t>MDE=MDD=MD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3:27:15Z</dcterms:created>
  <dc:creator>Florian Noyrit</dc:creator>
  <dc:description/>
  <dc:language>en-US</dc:language>
  <cp:lastModifiedBy>Florian Noyrit</cp:lastModifiedBy>
  <dcterms:modified xsi:type="dcterms:W3CDTF">2008-04-16T15:51:29Z</dcterms:modified>
  <cp:revision>429</cp:revision>
  <dc:subject/>
  <dc:title>Overview of Model-Based Software Engineering</dc:title>
</cp:coreProperties>
</file>